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254F-8A13-49FF-AA7A-F2498780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DC01-2614-4DD6-B0B6-65A2C206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02DD-7ED3-4990-94D9-B99B9DE4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872A-2303-4C79-8119-C64AE095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2CFE-4603-46AE-83A7-BDEB5709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924E-3AC2-416F-9C11-294DE433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5FC2-2376-4320-B87A-09673BEB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A2E5-FAD8-4796-B7FE-A51261A1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675E-0147-436D-B7A2-5EDA1B14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D2A2-32CC-4F6D-B776-6FF23CC7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8EBA-6CB9-4EF1-8A64-CA7B0FA6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707-AC8F-4346-BCB8-36405863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2431-F5B8-4089-9E33-EB5F8D39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2BD5-D91C-46C9-94FC-643A6948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9F11-1DAE-4609-A5A4-0A9AF6C2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FE48-2ED3-46E9-9228-50B05557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DA32-262F-49E1-95CE-8F92A912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D81-C4F6-4680-8D51-51B00C98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6D5-A9B6-45AB-AE53-4AA7AF89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39FB-D0A6-405D-9767-5F4A5A08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AA6-A360-4A0B-959D-3A2CEB49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514-191B-4367-8E7C-1C3BB304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A269-11F8-4CEE-B231-37315AE5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D56-54CB-456C-B5BA-C7086C76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17000" indent="-203400">
              <a:spcBef>
                <a:spcPts val="799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830960" indent="-203400">
              <a:spcBef>
                <a:spcPts val="799"/>
              </a:spcBef>
              <a:buClr>
                <a:srgbClr val="808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3403-11B7-4A39-BC76-A31BD9B8FA87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68CB-A678-4F16-B066-AE74087F7EB4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SzPct val="90000"/>
              <a:buFont typeface="Wingdings" charset="2"/>
              <a:buChar char="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ucs.ox.ac.uk/services/linux/" TargetMode="External"/><Relationship Id="rId3" Type="http://schemas.openxmlformats.org/officeDocument/2006/relationships/hyperlink" Target="http://www.oucs.ox.ac.uk/services/linux/" TargetMode="External"/><Relationship Id="rId4" Type="http://schemas.openxmlformats.org/officeDocument/2006/relationships/hyperlink" Target="http://www.oucs.ox.ac.uk/services/linux/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hpcc.edu/training/vitecbids/UnixIntro/UnixIntro.html" TargetMode="External"/><Relationship Id="rId3" Type="http://schemas.openxmlformats.org/officeDocument/2006/relationships/hyperlink" Target="http://www.mhpcc.edu/training/vitecbids/UnixIntro/UnixIntro.html" TargetMode="External"/><Relationship Id="rId4" Type="http://schemas.openxmlformats.org/officeDocument/2006/relationships/hyperlink" Target="http://www.mhpcc.edu/training/vitecbids/UnixIntro/UnixIntro.html" TargetMode="External"/><Relationship Id="rId5" Type="http://schemas.openxmlformats.org/officeDocument/2006/relationships/hyperlink" Target="http://www.mhpcc.edu/training/vitecbids/UnixIntro/UnixIntro.html" TargetMode="External"/><Relationship Id="rId6" Type="http://schemas.openxmlformats.org/officeDocument/2006/relationships/hyperlink" Target="http://www.mhpcc.edu/training/vitecbids/UnixIntro/UnixIntro.html" TargetMode="External"/><Relationship Id="rId7" Type="http://schemas.openxmlformats.org/officeDocument/2006/relationships/hyperlink" Target="http://www.chem.ox.ac.uk/course/unix/unix.html" TargetMode="External"/><Relationship Id="rId8" Type="http://schemas.openxmlformats.org/officeDocument/2006/relationships/hyperlink" Target="http://www.chem.ox.ac.uk/course/unix/unix.html" TargetMode="External"/><Relationship Id="rId9" Type="http://schemas.openxmlformats.org/officeDocument/2006/relationships/hyperlink" Target="http://www.chem.ox.ac.uk/course/unix/unix.html" TargetMode="External"/><Relationship Id="rId10" Type="http://schemas.openxmlformats.org/officeDocument/2006/relationships/hyperlink" Target="http://www.chem.ox.ac.uk/course/unix/unix.html" TargetMode="External"/><Relationship Id="rId11" Type="http://schemas.openxmlformats.org/officeDocument/2006/relationships/hyperlink" Target="http://www.chem.ox.ac.uk/course/unix/unix.html" TargetMode="External"/><Relationship Id="rId12" Type="http://schemas.openxmlformats.org/officeDocument/2006/relationships/hyperlink" Target="http://www.eng.hawaii.edu/Tutor/vi.html" TargetMode="External"/><Relationship Id="rId13" Type="http://schemas.openxmlformats.org/officeDocument/2006/relationships/hyperlink" Target="http://www.eng.hawaii.edu/Tutor/vi.html" TargetMode="External"/><Relationship Id="rId14" Type="http://schemas.openxmlformats.org/officeDocument/2006/relationships/hyperlink" Target="http://www.eng.hawaii.edu/Tutor/vi.html" TargetMode="External"/><Relationship Id="rId15" Type="http://schemas.openxmlformats.org/officeDocument/2006/relationships/hyperlink" Target="http://www.eng.hawaii.edu/Tutor/vi.html" TargetMode="External"/><Relationship Id="rId16" Type="http://schemas.openxmlformats.org/officeDocument/2006/relationships/hyperlink" Target="http://www.eng.hawaii.edu/Tutor/vi.html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rebuchet MS"/>
              </a:rPr>
              <a:t>Introduction to UNIX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Karl Harrison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ptember 2004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"/>
          <p:cNvSpPr/>
          <p:nvPr/>
        </p:nvSpPr>
        <p:spPr>
          <a:xfrm>
            <a:off x="7156440" y="501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UNIX GUI’s -Solari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6782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UNIX GUI’s -SG IRIX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Remote UNIX log on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58802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Oxford UNIX System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UCS provides a general-purpose cluster of computers running Debian GNU/Linux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e service is available to any University member who has a Herald account, and is accessed using Herald username and password on secure login to </a:t>
            </a:r>
            <a:r>
              <a:rPr b="0" lang="en-US" sz="2800" spc="-1" strike="noStrike">
                <a:solidFill>
                  <a:srgbClr val="333333"/>
                </a:solidFill>
                <a:latin typeface="Courier New"/>
              </a:rPr>
              <a:t>linux.ox.ac.uk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40"/>
                </a:solidFill>
                <a:uFillTx/>
                <a:latin typeface="Trebuchet MS"/>
                <a:hlinkClick r:id="rId2"/>
              </a:rPr>
              <a:t>http://www.</a:t>
            </a:r>
            <a:r>
              <a:rPr b="0" lang="en-US" sz="2400" spc="-1" strike="noStrike" u="sng">
                <a:solidFill>
                  <a:srgbClr val="008040"/>
                </a:solidFill>
                <a:uFillTx/>
                <a:latin typeface="Trebuchet MS"/>
                <a:hlinkClick r:id="rId3"/>
              </a:rPr>
              <a:t>oucs</a:t>
            </a:r>
            <a:r>
              <a:rPr b="0" lang="en-US" sz="2400" spc="-1" strike="noStrike" u="sng">
                <a:solidFill>
                  <a:srgbClr val="008040"/>
                </a:solidFill>
                <a:uFillTx/>
                <a:latin typeface="Trebuchet MS"/>
                <a:hlinkClick r:id="rId4"/>
              </a:rPr>
              <a:t>.ox.ac.uk/services/linux/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UNIX Tutorial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ui High Performance Computing Cent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40"/>
                </a:solidFill>
                <a:uFillTx/>
                <a:latin typeface="Trebuchet MS"/>
                <a:hlinkClick r:id="rId2"/>
              </a:rPr>
              <a:t>http://www.</a:t>
            </a:r>
            <a:r>
              <a:rPr b="0" lang="en-US" sz="2400" spc="-1" strike="noStrike" u="sng">
                <a:solidFill>
                  <a:srgbClr val="008040"/>
                </a:solidFill>
                <a:uFillTx/>
                <a:latin typeface="Trebuchet MS"/>
                <a:hlinkClick r:id="rId3"/>
              </a:rPr>
              <a:t>mhpcc</a:t>
            </a:r>
            <a:r>
              <a:rPr b="0" lang="en-US" sz="2400" spc="-1" strike="noStrike" u="sng">
                <a:solidFill>
                  <a:srgbClr val="008040"/>
                </a:solidFill>
                <a:uFillTx/>
                <a:latin typeface="Trebuchet MS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8040"/>
                </a:solidFill>
                <a:uFillTx/>
                <a:latin typeface="Trebuchet MS"/>
                <a:hlinkClick r:id="rId5"/>
              </a:rPr>
              <a:t>edu/training/vitecbids/UnixIntro/UnixIntro</a:t>
            </a:r>
            <a:r>
              <a:rPr b="0" lang="en-US" sz="2400" spc="-1" strike="noStrike" u="sng">
                <a:solidFill>
                  <a:srgbClr val="008040"/>
                </a:solidFill>
                <a:uFillTx/>
                <a:latin typeface="Trebuchet MS"/>
                <a:hlinkClick r:id="rId6"/>
              </a:rPr>
              <a:t>.htm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s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40"/>
                </a:solidFill>
                <a:uFillTx/>
                <a:latin typeface="Trebuchet MS"/>
                <a:hlinkClick r:id="rId7"/>
              </a:rPr>
              <a:t>http://www.</a:t>
            </a:r>
            <a:r>
              <a:rPr b="0" lang="en-US" sz="2400" spc="-1" strike="noStrike" u="sng">
                <a:solidFill>
                  <a:srgbClr val="008040"/>
                </a:solidFill>
                <a:uFillTx/>
                <a:latin typeface="Trebuchet MS"/>
                <a:hlinkClick r:id="rId8"/>
              </a:rPr>
              <a:t>chem</a:t>
            </a:r>
            <a:r>
              <a:rPr b="0" lang="en-US" sz="2400" spc="-1" strike="noStrike" u="sng">
                <a:solidFill>
                  <a:srgbClr val="008040"/>
                </a:solidFill>
                <a:uFillTx/>
                <a:latin typeface="Trebuchet MS"/>
                <a:hlinkClick r:id="rId9"/>
              </a:rPr>
              <a:t>.ox.ac.</a:t>
            </a:r>
            <a:r>
              <a:rPr b="0" lang="en-US" sz="2400" spc="-1" strike="noStrike" u="sng">
                <a:solidFill>
                  <a:srgbClr val="008040"/>
                </a:solidFill>
                <a:uFillTx/>
                <a:latin typeface="Trebuchet MS"/>
                <a:hlinkClick r:id="rId10"/>
              </a:rPr>
              <a:t>uk/course/unix/unix</a:t>
            </a:r>
            <a:r>
              <a:rPr b="0" lang="en-US" sz="2400" spc="-1" strike="noStrike" u="sng">
                <a:solidFill>
                  <a:srgbClr val="008040"/>
                </a:solidFill>
                <a:uFillTx/>
                <a:latin typeface="Trebuchet MS"/>
                <a:hlinkClick r:id="rId11"/>
              </a:rPr>
              <a:t>.htm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i Edito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40"/>
                </a:solidFill>
                <a:uFillTx/>
                <a:latin typeface="Trebuchet MS"/>
                <a:hlinkClick r:id="rId12"/>
              </a:rPr>
              <a:t>http://www.eng.</a:t>
            </a:r>
            <a:r>
              <a:rPr b="0" lang="en-US" sz="2400" spc="-1" strike="noStrike" u="sng">
                <a:solidFill>
                  <a:srgbClr val="008040"/>
                </a:solidFill>
                <a:uFillTx/>
                <a:latin typeface="Trebuchet MS"/>
                <a:hlinkClick r:id="rId13"/>
              </a:rPr>
              <a:t>hawaii</a:t>
            </a:r>
            <a:r>
              <a:rPr b="0" lang="en-US" sz="2400" spc="-1" strike="noStrike" u="sng">
                <a:solidFill>
                  <a:srgbClr val="008040"/>
                </a:solidFill>
                <a:uFillTx/>
                <a:latin typeface="Trebuchet MS"/>
                <a:hlinkClick r:id="rId14"/>
              </a:rPr>
              <a:t>.</a:t>
            </a:r>
            <a:r>
              <a:rPr b="0" lang="en-US" sz="2400" spc="-1" strike="noStrike" u="sng">
                <a:solidFill>
                  <a:srgbClr val="008040"/>
                </a:solidFill>
                <a:uFillTx/>
                <a:latin typeface="Trebuchet MS"/>
                <a:hlinkClick r:id="rId15"/>
              </a:rPr>
              <a:t>edu/Tutor/vi</a:t>
            </a:r>
            <a:r>
              <a:rPr b="0" lang="en-US" sz="2400" spc="-1" strike="noStrike" u="sng">
                <a:solidFill>
                  <a:srgbClr val="008040"/>
                </a:solidFill>
                <a:uFillTx/>
                <a:latin typeface="Trebuchet MS"/>
                <a:hlinkClick r:id="rId16"/>
              </a:rPr>
              <a:t>.htm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54278"/>
                </a:solidFill>
                <a:latin typeface="Trebuchet MS"/>
              </a:rPr>
              <a:t>The UNIX Operating System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NewRomanPS-ItalicMT"/>
              </a:rPr>
              <a:t>operating system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</a:rPr>
              <a:t> (or "OS") is a set of programs that controls a comput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</a:rPr>
              <a:t>It controls both the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NewRomanPS-ItalicMT"/>
              </a:rPr>
              <a:t>hardware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 (things you can touch—such as keyboards, displays, and disk drive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NewRomanPS-ItalicMT"/>
              </a:rPr>
              <a:t>software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 (application programs that you run, such as a word processor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54278"/>
                </a:solidFill>
                <a:latin typeface="Trebuchet MS"/>
              </a:rPr>
              <a:t>The UNIX Operating System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Some computers have a </a:t>
            </a:r>
            <a:r>
              <a:rPr b="0" i="1" lang="en-US" sz="2800" spc="-1" strike="noStrike">
                <a:solidFill>
                  <a:srgbClr val="000000"/>
                </a:solidFill>
                <a:latin typeface="TimesNewRomanPS-ItalicMT"/>
              </a:rPr>
              <a:t>single-user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 OS, which means only one person can use the computer at a time. They can also do only one job at a time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But if it has a </a:t>
            </a:r>
            <a:r>
              <a:rPr b="0" i="1" lang="en-US" sz="2800" spc="-1" strike="noStrike">
                <a:solidFill>
                  <a:srgbClr val="000000"/>
                </a:solidFill>
                <a:latin typeface="TimesNewRomanPS-ItalicMT"/>
              </a:rPr>
              <a:t>multiuser, multitasking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 operating system like UNIX. Then these powerful OSes can let many people use the computer at the same time and let each user run several jobs at onc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54278"/>
                </a:solidFill>
                <a:latin typeface="Trebuchet MS"/>
              </a:rPr>
              <a:t>Versions of UNIX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</a:rPr>
              <a:t>Now there are many different versions of UNIX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</a:rPr>
              <a:t>At first there were two main versions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The line of UNIX releases that started at AT&amp;T (the latest is System V Release 4)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And from the University of California at Berkeley (the latest version is BSD 4.4)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54278"/>
                </a:solidFill>
                <a:latin typeface="Trebuchet MS"/>
              </a:rPr>
              <a:t>Versions of UNIX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Now commercial versions include SunOS, Solaris, SCO UNIX, SG IRIX, AIX, HP/UX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The freely available versions include Linux and FreeBSD 5.2 (based on 4.4BSD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Many Versions of Linux - Redhat, Fedroa, Debian, </a:t>
            </a:r>
            <a:r>
              <a:rPr b="0" lang="en-US" sz="2400" spc="-1" strike="noStrike">
                <a:solidFill>
                  <a:srgbClr val="000000"/>
                </a:solidFill>
                <a:latin typeface="ArialMT"/>
              </a:rPr>
              <a:t>SuSE and MandrakeSof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Apple Mac OS X (FreeBSD 5.2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What is different with UNIX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1981080"/>
            <a:ext cx="838080" cy="2819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-BoldMT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1981080"/>
            <a:ext cx="838080" cy="2828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-BoldMT"/>
              </a:rPr>
              <a:t>UNIX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1828800"/>
            <a:ext cx="838080" cy="3124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-BoldMT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2590920"/>
            <a:ext cx="838080" cy="2533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-BoldMT"/>
              </a:rPr>
              <a:t>Commands &amp;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1752480"/>
            <a:ext cx="838080" cy="2003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-BoldMT"/>
              </a:rPr>
              <a:t>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0"/>
            <a:endCxn id="98" idx="0"/>
          </p:cNvCxnSpPr>
          <p:nvPr/>
        </p:nvCxnSpPr>
        <p:spPr>
          <a:xfrm flipH="1" flipV="1" rot="5400000">
            <a:off x="5562360" y="571320"/>
            <a:ext cx="76680" cy="2439000"/>
          </a:xfrm>
          <a:prstGeom prst="bentConnector3">
            <a:avLst>
              <a:gd name="adj1" fmla="val 40141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" name=""/>
          <p:cNvCxnSpPr>
            <a:stCxn id="96" idx="3"/>
            <a:endCxn id="97" idx="1"/>
          </p:cNvCxnSpPr>
          <p:nvPr/>
        </p:nvCxnSpPr>
        <p:spPr>
          <a:xfrm>
            <a:off x="4800600" y="3390480"/>
            <a:ext cx="457920" cy="467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1" name=""/>
          <p:cNvCxnSpPr>
            <a:stCxn id="94" idx="3"/>
            <a:endCxn id="95" idx="1"/>
          </p:cNvCxnSpPr>
          <p:nvPr/>
        </p:nvCxnSpPr>
        <p:spPr>
          <a:xfrm>
            <a:off x="2057400" y="3390480"/>
            <a:ext cx="5342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95" idx="3"/>
            <a:endCxn id="96" idx="1"/>
          </p:cNvCxnSpPr>
          <p:nvPr/>
        </p:nvCxnSpPr>
        <p:spPr>
          <a:xfrm flipV="1">
            <a:off x="3429000" y="3390120"/>
            <a:ext cx="5342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7620120" y="1752480"/>
            <a:ext cx="838080" cy="2971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-BoldMT"/>
              </a:rPr>
              <a:t>User </a:t>
            </a:r>
            <a:r>
              <a:rPr b="0" lang="en-US" sz="1600" spc="-1" strike="noStrike">
                <a:solidFill>
                  <a:srgbClr val="000000"/>
                </a:solidFill>
                <a:latin typeface="Arial-BoldMT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8" idx="3"/>
            <a:endCxn id="103" idx="1"/>
          </p:cNvCxnSpPr>
          <p:nvPr/>
        </p:nvCxnSpPr>
        <p:spPr>
          <a:xfrm>
            <a:off x="7238520" y="2754000"/>
            <a:ext cx="381960" cy="484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97" idx="3"/>
            <a:endCxn id="98" idx="1"/>
          </p:cNvCxnSpPr>
          <p:nvPr/>
        </p:nvCxnSpPr>
        <p:spPr>
          <a:xfrm flipV="1">
            <a:off x="6095520" y="2753640"/>
            <a:ext cx="305640" cy="1104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 rot="6334800">
            <a:off x="3618720" y="5219280"/>
            <a:ext cx="1600200" cy="16765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4191120"/>
            <a:ext cx="838080" cy="2003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-BoldMT"/>
              </a:rPr>
              <a:t>X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97" idx="2"/>
            <a:endCxn id="107" idx="2"/>
          </p:cNvCxnSpPr>
          <p:nvPr/>
        </p:nvCxnSpPr>
        <p:spPr>
          <a:xfrm flipH="1" rot="16200000">
            <a:off x="5750640" y="5049720"/>
            <a:ext cx="1070640" cy="1220040"/>
          </a:xfrm>
          <a:prstGeom prst="bentConnector3">
            <a:avLst>
              <a:gd name="adj1" fmla="val 12135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9" name=""/>
          <p:cNvCxnSpPr>
            <a:stCxn id="107" idx="3"/>
            <a:endCxn id="103" idx="2"/>
          </p:cNvCxnSpPr>
          <p:nvPr/>
        </p:nvCxnSpPr>
        <p:spPr>
          <a:xfrm flipV="1">
            <a:off x="7314840" y="4723560"/>
            <a:ext cx="724680" cy="469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UNIX GUI’s -Apple OS X 10.4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3048120" cy="1801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09480" y="3200400"/>
            <a:ext cx="4033800" cy="3030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638680" y="1676520"/>
            <a:ext cx="2573280" cy="2241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876920" y="3792600"/>
            <a:ext cx="28191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UNIX GUI’s -Apple OS X 10.4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4190760" cy="2800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181480" y="2971800"/>
            <a:ext cx="31244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UNIX GUI’s -Fedora KD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86000" y="1612800"/>
            <a:ext cx="618012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20:27:26Z</dcterms:created>
  <dc:creator>karl</dc:creator>
  <dc:description/>
  <dc:language>en-US</dc:language>
  <cp:lastModifiedBy>Karl Harrison</cp:lastModifiedBy>
  <dcterms:modified xsi:type="dcterms:W3CDTF">2005-09-30T08:52:04Z</dcterms:modified>
  <cp:revision>18</cp:revision>
  <dc:subject/>
  <dc:title>Introduction to UNIX</dc:title>
</cp:coreProperties>
</file>