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C64-781E-4606-935D-FBD475A1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143960"/>
            <a:ext cx="8381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4FB3-6113-496C-830E-4427A074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8320" y="16761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1439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8320" y="41439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82F-19CB-4BD0-81F9-03B315E1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2698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7080" y="1676160"/>
            <a:ext cx="2698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1000" y="1676160"/>
            <a:ext cx="2698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143960"/>
            <a:ext cx="2698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7080" y="4143960"/>
            <a:ext cx="2698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1000" y="4143960"/>
            <a:ext cx="2698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8CB-DB99-4FFC-BB78-EAE0299E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E6E1-E2DA-4B33-A842-DAD72892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1D51-F840-4EEB-ABFD-C40D8664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B3C9-AF5B-4195-BEC1-51DB6287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8320" y="167616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F1F9-49C6-40BB-A794-D9B58618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F12C-BB38-424E-B8FA-48CA7464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7BCB-C1EF-49C2-BC53-34366261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8320" y="167616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1439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B63E-2B11-4F23-8C2C-D41E7890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FA6-3E25-4F1B-A8FD-7FA50C8D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8320" y="16761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28320" y="41439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B0C3-421E-43A7-9E76-B1DCFB3B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8320" y="16761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43960"/>
            <a:ext cx="8381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764C-A20E-4857-BDB4-9503AB71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143960"/>
            <a:ext cx="8381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F6B7-456D-4A01-94B5-EA711AC6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8320" y="16761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1439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28320" y="41439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79DA-56C7-481A-B186-BC43489C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2698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7080" y="1676160"/>
            <a:ext cx="2698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1000" y="1676160"/>
            <a:ext cx="2698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143960"/>
            <a:ext cx="2698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7080" y="4143960"/>
            <a:ext cx="2698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01000" y="4143960"/>
            <a:ext cx="2698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15D8-87C7-4977-BD3F-F4CAD6FD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8C9-9A43-4F18-9C62-8D178FD2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8320" y="167616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F35-35A8-4D27-9789-7E191007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33B-6D3E-47DD-9C8D-932A7570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BD9-0038-4A67-9EB3-F15CA36A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8320" y="167616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1439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EEF-8C09-4CE5-B453-AABDC263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8320" y="16761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8320" y="41439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F5C-FCE8-4C53-9A2E-29816A30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8320" y="167616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143960"/>
            <a:ext cx="8381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50D-0DEC-48D3-9169-15F6D9EF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7797-CA13-4F5B-8977-EE53504A3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20760" y="0"/>
            <a:ext cx="8823240" cy="6857640"/>
            <a:chOff x="320760" y="0"/>
            <a:chExt cx="8823240" cy="6857640"/>
          </a:xfrm>
        </p:grpSpPr>
        <p:sp>
          <p:nvSpPr>
            <p:cNvPr id="6" name=""/>
            <p:cNvSpPr/>
            <p:nvPr/>
          </p:nvSpPr>
          <p:spPr>
            <a:xfrm>
              <a:off x="320760" y="0"/>
              <a:ext cx="8823240" cy="685764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1666080"/>
              <a:ext cx="769572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E7E5-C1EA-4AC5-875B-7CDBD12EC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Unix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A5CD-6094-4977-9D31-0912069AD4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cess Crea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ent process creates children processes, which, in turn create other processes, forming a tree of process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and children execute concurr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waits until children termin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A36-CDDD-4E40-A62E-43D871DFB3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ignal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signal is an event generated by the UNIX system in response to some condi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s - memory violations, math processors err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rup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ling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il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stem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D08-2404-42C5-AAE4-A63ED59FF3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reads (briefly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hrea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lightweight proce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is consists of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er s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ck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thread shares with its peer threads it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ng-system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traditional or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heavyweigh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process is equal to a task with one thre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9E0C-8A22-4DB8-8C00-F10B68438A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reads Support in Solaris 2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aris 2 is a version of UNIX with support for threads at the kernel and user levels, symmetric multiprocessing, an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-time schedul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WP – intermediate level between user-level threads and kernel-level threa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 needs of thread typ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thread:  small data structure and a stack; thread switching does not require changing memory access information – relatively f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WP:  PCB with register data, accounting and memory information,; switching between LWPs is relatively s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level thread:  only need stack and program counter; no kernel involvement means fast switching.  Kernel only sees the LWPs that support user-level threa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4081-DDE3-43B1-930A-4C4A53A390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olaris 2 Thread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47" t="16856" r="511" b="16856"/>
          <a:stretch/>
        </p:blipFill>
        <p:spPr>
          <a:xfrm>
            <a:off x="1127160" y="1676520"/>
            <a:ext cx="68245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487-1E4C-4A40-94B0-7EADC1A0A7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terprocess Communication (IPC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/O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ip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593-AB16-4F17-8B5A-55E61DB1B5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/O System Call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/O operations made by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descript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criptors are integer values represent  indexes for special tables that are handle by the OS kernel to access the data – (a file can be a device also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ry process has his own descriptors , saved in his PDT – process descriptor 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default , every process has 3 descriptor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 – stdin - key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– stdout - scr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– stderr - scr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DF04-BBC8-4DE5-8401-CB0E156099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ip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O  data pass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use for synchronizatio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mplement via files by two descriptors (read , writ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ipe type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pip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named pi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29B-D921-46F1-AB82-11475FA81F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File Syst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F876-5104-4AF7-8DF7-8FE8454D0D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ile Attribut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only information kept in human-readable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needed for systems that support different typ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pointer to file location on dev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current file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controls who can do reading, writing, execu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d user identifi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data for protection, security, and usage monito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about files are kept in the directory structure, which is maintained on the dis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84B-3D63-4F75-9016-A880A44990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Operating Systems Concept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formation protection &amp; secur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heduling and resource manage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Shel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B53-D751-4860-BC23-59BEAD98AE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ccess Lists and Group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de of access:  read, write, execu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ree classes of us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) owner acces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 1 1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) groups acces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 1 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) public acces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 0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tach a group to a f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chgrp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    G    ga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179040" y="1829160"/>
            <a:ext cx="2544480" cy="1249560"/>
            <a:chOff x="6179040" y="1829160"/>
            <a:chExt cx="2544480" cy="1249560"/>
          </a:xfrm>
        </p:grpSpPr>
        <p:sp>
          <p:nvSpPr>
            <p:cNvPr id="134" name=""/>
            <p:cNvSpPr/>
            <p:nvPr/>
          </p:nvSpPr>
          <p:spPr>
            <a:xfrm>
              <a:off x="6179040" y="1830600"/>
              <a:ext cx="7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w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08120" y="182916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47000" y="1830600"/>
              <a:ext cx="7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9600" y="2741400"/>
              <a:ext cx="8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hm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7320" y="27414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76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83840" y="274140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95560" y="2073600"/>
              <a:ext cx="587160" cy="58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66320" y="2149560"/>
              <a:ext cx="0" cy="48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557480" y="2099160"/>
              <a:ext cx="76212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81E-EAFD-4DDB-A47C-4056ACCF6C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-Memory File System Structur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4597" t="919" r="4571" b="718"/>
          <a:stretch/>
        </p:blipFill>
        <p:spPr>
          <a:xfrm>
            <a:off x="1295280" y="1828800"/>
            <a:ext cx="6705720" cy="44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034-9F48-4700-8CAD-D1351A1030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dexed Alloca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rings all pointers together into th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index block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429000" y="3276720"/>
            <a:ext cx="1760400" cy="2104200"/>
            <a:chOff x="3429000" y="3276720"/>
            <a:chExt cx="1760400" cy="2104200"/>
          </a:xfrm>
        </p:grpSpPr>
        <p:sp>
          <p:nvSpPr>
            <p:cNvPr id="148" name=""/>
            <p:cNvSpPr/>
            <p:nvPr/>
          </p:nvSpPr>
          <p:spPr>
            <a:xfrm>
              <a:off x="3429000" y="3276720"/>
              <a:ext cx="606240" cy="33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29000" y="3602160"/>
              <a:ext cx="606240" cy="33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29000" y="3927600"/>
              <a:ext cx="606240" cy="33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29000" y="4253040"/>
              <a:ext cx="606240" cy="33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4578120"/>
              <a:ext cx="60624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87800" y="3290760"/>
              <a:ext cx="201600" cy="17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87800" y="3659040"/>
              <a:ext cx="201600" cy="17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87800" y="4027320"/>
              <a:ext cx="201600" cy="17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87800" y="4395600"/>
              <a:ext cx="201600" cy="17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87800" y="4763880"/>
              <a:ext cx="201600" cy="17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4040" y="3378240"/>
              <a:ext cx="9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29120" y="3717720"/>
              <a:ext cx="9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37040" y="4129200"/>
              <a:ext cx="9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02120" y="4483080"/>
              <a:ext cx="9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24080" y="4836960"/>
              <a:ext cx="9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6880" y="50126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 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A2B-B49E-4864-A73D-0A9ACD0963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xample of Indexed Alloca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4930" t="871" r="4907" b="580"/>
          <a:stretch/>
        </p:blipFill>
        <p:spPr>
          <a:xfrm>
            <a:off x="2011320" y="1676520"/>
            <a:ext cx="5424480" cy="472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36B-8580-4D45-A5D1-3D92EF5EFD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dexed Allocation (Cont.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index tab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ndom acces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ave overhead of index block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pping from logical to physical in a file of maximum size of 256K words and block size of 512 words.  We need only 1 block for index tabl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C5B3-0928-43B0-A707-F2D3523CE6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NIX inode  (UFS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1396" t="856" r="1323" b="317"/>
          <a:stretch/>
        </p:blipFill>
        <p:spPr>
          <a:xfrm>
            <a:off x="2011320" y="1676520"/>
            <a:ext cx="5424480" cy="472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46F-C2A1-46B1-AE25-026437BB48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isk Parti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28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oting the operating 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mary Boot Sector (sector 0)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BR and Partition Table – allocate the active partition and jump to it’s secondary boot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e Partition – the loader of the OS is in the secondary boot sector – set the OS fil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ctive partition – the secondary boot sector is ignored – additional fil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151000" y="4619520"/>
          <a:ext cx="5729400" cy="16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1000" y="4619520"/>
                    <a:ext cx="572940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14E-58E8-4647-82E3-33D8738410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isk Formatting and Partitioning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k Partitioning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S-DOS /Linux –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d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S-DOS partitions can mount as separate dr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ux – one partition for root file system and one for swap fil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k Formatt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up the partition with the file system structu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S-DO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bootstrap code, FAT, root direc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kfs – bootstrap code ,super block , i-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02A-C7DB-467E-8D23-5045CCBE6D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NIX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80880" y="1295280"/>
          <a:ext cx="8305920" cy="49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0592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D85-7303-4E1C-BF70-C6003E2BB2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NIX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2141640"/>
          <a:ext cx="8234280" cy="36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41640"/>
                    <a:ext cx="823428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30C-7089-4B87-AD12-E5F08A40C0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ystem Structure – UNIX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504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IX – The kern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everything below the system-call interface and above the physical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the file system, CPU scheduling, memory management, and other operating-system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703" t="9155" r="452" b="9343"/>
          <a:stretch/>
        </p:blipFill>
        <p:spPr>
          <a:xfrm>
            <a:off x="4038480" y="2133720"/>
            <a:ext cx="495324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F03-137D-40DD-8BAD-69B1B5E5DA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NIX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1396" t="856" r="1323" b="317"/>
          <a:stretch/>
        </p:blipFill>
        <p:spPr>
          <a:xfrm>
            <a:off x="2077920" y="1754280"/>
            <a:ext cx="5375520" cy="4529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51D-FF8F-4E34-945D-AF4F6D149F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NIX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-node structure is small , fixed siz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maller files can be accessed quickly – larger files long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big can a file be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 1K disk block and 32 bit ad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Kb + 256 * 1K + 256*256*1K + 256*256*256*1K &gt; 16G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1C4-6AE8-4138-8460-FB15504998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NIX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33520" y="1793880"/>
          <a:ext cx="838188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93880"/>
                    <a:ext cx="838188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FD0-C4F1-4D00-940C-A048FCBD62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raditional UNIX Schedul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eduling algorithm objecti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good response time for interactive u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that low-priority background jobs do not sta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eduling algorithm implement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level feedback using round robin within each of the priority que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second pree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ty based on process type and execution hi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ties are recomputed once per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 priority divides all processes into fixed bands of priority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ds used to optimize access to block devices (e.g., disk) and to allow the OS to respond quickly to system ca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FA8-6C48-403D-BCD0-0981DAF710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Traditional  UNIX Scheduling (cont.)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PU j (i)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asure of processor utilization by process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rough interva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 j ( i 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=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ority of proces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 beginning of interval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er values equal higher prior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ase j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ase priority of process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ice j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controllable adjustment fac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52480" y="1600200"/>
            <a:ext cx="5257440" cy="2536200"/>
            <a:chOff x="1752480" y="1600200"/>
            <a:chExt cx="5257440" cy="2536200"/>
          </a:xfrm>
        </p:grpSpPr>
        <p:sp>
          <p:nvSpPr>
            <p:cNvPr id="194" name=""/>
            <p:cNvSpPr/>
            <p:nvPr/>
          </p:nvSpPr>
          <p:spPr>
            <a:xfrm>
              <a:off x="4293360" y="1600200"/>
              <a:ext cx="1665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67760" y="1701360"/>
              <a:ext cx="20152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PU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( i – 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67760" y="2210760"/>
              <a:ext cx="192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52480" y="3228120"/>
              <a:ext cx="52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(i) = Base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31480" y="3737520"/>
              <a:ext cx="78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030560" y="3533400"/>
              <a:ext cx="227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42720" y="3024720"/>
              <a:ext cx="22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PU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( i – 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93360" y="2312280"/>
              <a:ext cx="7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67760" y="2414160"/>
              <a:ext cx="21027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209680" y="1981080"/>
            <a:ext cx="1524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PU j  (i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8928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+ nice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EAD-A501-4B2F-B85C-61A6D58479B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Traditional  UNIX Scheduling (cont.)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ds in decreasing order of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I/O devic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 I/O devic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the most efficient use of I/O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the user process band, use the execution history to penalize processor-bound processes at the expense of I/O bou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rocess sched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 A, B, and C are created at the same time with base priorities of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interrupts the system 60 times a second and increments counter for runn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B06-6958-4A7B-B976-11F6A6530B9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336666"/>
                </a:solidFill>
                <a:latin typeface="Arial Black"/>
              </a:rPr>
              <a:t>  </a:t>
            </a:r>
            <a:r>
              <a:rPr b="0" lang="en-US" sz="2500" spc="-1" strike="noStrike">
                <a:solidFill>
                  <a:srgbClr val="336666"/>
                </a:solidFill>
                <a:latin typeface="Arial Black"/>
              </a:rPr>
              <a:t>Traditional  UNIX Scheduling (Example)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403848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948-FA05-43F5-AE60-6953C2E445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Linux Schedul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hances the traditional UNIX scheduling by adding two new scheduling classes for real-time process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heduling class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ED_FIFO: First-in-first-out real-time threa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ED_RR: Round-robin real-time threa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ED_OTHER: Other, non-real-time threa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AE9-C9FB-42F8-B933-8AF51ACCB9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Linux Scheduling: FIFO vs. RR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3320" y="1676520"/>
            <a:ext cx="456228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0F8C-8842-4CEC-AB4C-49FABD4E18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cess Concep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cess – a program in exec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IX’s process definition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an address space with one or more threads executing within that  address space, and the required system resources for those threads.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process includ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coun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sec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B89-E362-45E2-86AD-C9790C95C4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cess Stat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 a process executes, it changes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:  The process is being cr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:  Instructions are being exec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ing:  The process is waiting for some event to occ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y:  The process is waiting to be assigned to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ed:  The process has finished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567" t="25693" r="593" b="25531"/>
          <a:stretch/>
        </p:blipFill>
        <p:spPr>
          <a:xfrm>
            <a:off x="1066680" y="3814920"/>
            <a:ext cx="678204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712-A471-428F-A6CE-1C6469E2F0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cess Control Block (PCB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482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formation associated with each proces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U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U scheduling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ory-management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ounting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/O status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28018" t="731" r="28018" b="539"/>
          <a:stretch/>
        </p:blipFill>
        <p:spPr>
          <a:xfrm>
            <a:off x="5651640" y="1916280"/>
            <a:ext cx="2670120" cy="41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B51-6CEC-4FCD-9B50-2C5538F004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3227" t="831" r="2958" b="1048"/>
          <a:stretch/>
        </p:blipFill>
        <p:spPr>
          <a:xfrm>
            <a:off x="2895480" y="1523880"/>
            <a:ext cx="5867640" cy="4648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 Black"/>
              </a:rPr>
              <a:t>Context Switch</a:t>
            </a:r>
            <a:endParaRPr b="0" lang="en-US" sz="3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n CPU switches to another process, the system must save the state of the old process and load the saved state for the new proc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ext-switch time is overhead; the system does no useful work while switch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32F-4E5E-4533-90BB-9BDDE8AC3D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Some of the Process Scheduling Queues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4116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ob queue – set of all processes in the syste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y queue – set of all processes residing in main memory,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y and waiting to execu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ice queues – set of processes waiting for an I/O devi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cess migration between the various que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4248" t="539" r="4107" b="690"/>
          <a:stretch/>
        </p:blipFill>
        <p:spPr>
          <a:xfrm>
            <a:off x="4538520" y="1755720"/>
            <a:ext cx="4376880" cy="424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FA2-FF20-4235-A941-2EEE2CA801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cheduler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ng-term scheduler (or job scheduler) – selects which processes should be brought into the ready queu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ort-term scheduler (or CPU scheduler) – selects which process should be executed next and allocates CPU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579" t="27388" r="579" b="27546"/>
          <a:stretch/>
        </p:blipFill>
        <p:spPr>
          <a:xfrm>
            <a:off x="1424160" y="3517920"/>
            <a:ext cx="5859360" cy="288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2DE-85D4-4768-9E93-C199B248EE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20:44:56Z</dcterms:created>
  <dc:creator>OFIR</dc:creator>
  <dc:description/>
  <dc:language>en-US</dc:language>
  <cp:lastModifiedBy>Administrator</cp:lastModifiedBy>
  <dcterms:modified xsi:type="dcterms:W3CDTF">2002-11-13T21:44:37Z</dcterms:modified>
  <cp:revision>56</cp:revision>
  <dc:subject/>
  <dc:title>Operating Systems</dc:title>
</cp:coreProperties>
</file>