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74A-45B7-47C7-A8F5-959A4019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321-A728-4C93-ACE3-B33F4EA3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3EC-0D13-43B8-9082-763BDC1E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2B2-E83B-4873-9596-8E28A802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243C-4205-402D-AF4F-E07BE53F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D923-87F6-49B3-B3AC-FE8AF010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B9DB-26D4-45C3-8FCF-ED5DACD0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2D19-99EC-496B-BDDB-DF21B7B6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2961-AFF3-4179-B2D4-CA3CBDA0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D3DB-03E5-47E5-A81D-76B63B4F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C998-6CAF-4659-BBC8-DD6A0D4A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DAE-235B-491E-A9D6-85607437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3011-ACAE-4578-9824-87352EA5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A338-852E-4E33-BE6F-C0A24F5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CD48-5988-4761-9D63-F03E7FD0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CB69-1E2B-4C9C-9B0C-94BE53CB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DE92-2CE4-453B-89E7-33F9790D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29A-F15F-4FF2-A57C-79226CE3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151-B8AC-4FCA-B6F4-2DD975EC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291-08D4-462B-AFBE-10540D71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4B7-809C-4DA1-976A-DBB0B6C8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0D5-A5F1-4D22-84AA-689ACCD1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7F5-B267-4B62-896A-6E866B48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99B-A042-47C6-A4D5-69DBBC3A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90FE-CB8C-4A67-8F33-61C10FD979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F65D-6B66-4A49-A7A5-928D478F2C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nux.org/" TargetMode="External"/><Relationship Id="rId2" Type="http://schemas.openxmlformats.org/officeDocument/2006/relationships/hyperlink" Target="http://oss.software.ibm.com/developerworks/opensource/linux390/index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linux390.marist.edu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hyperlink" Target="http://www.ssc.com/mirrors/LDP/HOWTO/Commercial-HOWTO.html" TargetMode="External"/><Relationship Id="rId2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hyperlink" Target="http://www.ugu.com/" TargetMode="External"/><Relationship Id="rId2" Type="http://schemas.openxmlformats.org/officeDocument/2006/relationships/hyperlink" Target="http://pucc.princeton.edu:10080/" TargetMode="External"/><Relationship Id="rId3" Type="http://schemas.openxmlformats.org/officeDocument/2006/relationships/hyperlink" Target="file://VMD1/VMD/SERVICES/TRAINING/LINUX/LINUXINT.PDF" TargetMode="External"/><Relationship Id="rId4" Type="http://schemas.openxmlformats.org/officeDocument/2006/relationships/hyperlink" Target="file://VMD1/VMD/SERVICES/TRAINING/LINUX/UNIXINTR.PDF" TargetMode="External"/><Relationship Id="rId5" Type="http://schemas.openxmlformats.org/officeDocument/2006/relationships/hyperlink" Target="http://www.linuxninja.com/linux-admin/book1.html" TargetMode="External"/><Relationship Id="rId6" Type="http://schemas.openxmlformats.org/officeDocument/2006/relationships/hyperlink" Target="http://plg2.math.uwaterloo.ca/~itbowman/CS746G/a1/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8/adduser.8.inc" TargetMode="External"/><Relationship Id="rId2" Type="http://schemas.openxmlformats.org/officeDocument/2006/relationships/hyperlink" Target="http://linux.com.hk/man/showman.cgi?manpath=/man/man1/passwd.1.inc" TargetMode="External"/><Relationship Id="rId3" Type="http://schemas.openxmlformats.org/officeDocument/2006/relationships/hyperlink" Target="telnet://pucc.princeton.edu:10023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id.1.inc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exit.1.inc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man.1.inc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ls.1.inc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ps.1.inc" TargetMode="External"/><Relationship Id="rId2" Type="http://schemas.openxmlformats.org/officeDocument/2006/relationships/hyperlink" Target="http://linux.com.hk/man/showman.cgi?manpath=/man/man1/grep.1.inc" TargetMode="External"/><Relationship Id="rId3" Type="http://schemas.openxmlformats.org/officeDocument/2006/relationships/hyperlink" Target="http://linux.com.hk/man/showman.cgi?manpath=/man/man1/wc.1.inc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pwd.1.inc" TargetMode="External"/><Relationship Id="rId2" Type="http://schemas.openxmlformats.org/officeDocument/2006/relationships/hyperlink" Target="http://linux.com.hk/man/showman.cgi?manpath=/man/man1/cd.1.inc" TargetMode="External"/><Relationship Id="rId3" Type="http://schemas.openxmlformats.org/officeDocument/2006/relationships/hyperlink" Target="http://linux.com.hk/man/showman.cgi?manpath=/man/man1/ls.1.inc" TargetMode="External"/><Relationship Id="rId4" Type="http://schemas.openxmlformats.org/officeDocument/2006/relationships/hyperlink" Target="http://linux.com.hk/man/showman.cgi?manpath=/man/man1/ls.1.inc" TargetMode="Externa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cp.1.inc" TargetMode="External"/><Relationship Id="rId2" Type="http://schemas.openxmlformats.org/officeDocument/2006/relationships/hyperlink" Target="http://linux.com.hk/man/showman.cgi?manpath=/man/man1/mv.1.inc" TargetMode="External"/><Relationship Id="rId3" Type="http://schemas.openxmlformats.org/officeDocument/2006/relationships/hyperlink" Target="http://linux.com.hk/man/showman.cgi?manpath=/man/man1/rm.1.inc" TargetMode="External"/><Relationship Id="rId4" Type="http://schemas.openxmlformats.org/officeDocument/2006/relationships/hyperlink" Target="http://linux.com.hk/man/showman.cgi?manpath=/man/man1/mkdir.1.inc" TargetMode="External"/><Relationship Id="rId5" Type="http://schemas.openxmlformats.org/officeDocument/2006/relationships/hyperlink" Target="http://linux.com.hk/man/showman.cgi?manpath=/man/man1/mkdir.1.inc" TargetMode="Externa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who.1.inc" TargetMode="External"/><Relationship Id="rId2" Type="http://schemas.openxmlformats.org/officeDocument/2006/relationships/hyperlink" Target="http://linux.com.hk/man/showman.cgi?manpath=/man/man1/whoami.1.inc" TargetMode="External"/><Relationship Id="rId3" Type="http://schemas.openxmlformats.org/officeDocument/2006/relationships/hyperlink" Target="http://linux.com.hk/man/showman.cgi?manpath=/man/man1/ps.1.inc" TargetMode="External"/><Relationship Id="rId4" Type="http://schemas.openxmlformats.org/officeDocument/2006/relationships/hyperlink" Target="http://linux.com.hk/man/showman.cgi?manpath=/man/man1/ps.1.inc" TargetMode="External"/><Relationship Id="rId5" Type="http://schemas.openxmlformats.org/officeDocument/2006/relationships/hyperlink" Target="http://linux.com.hk/man/showman.cgi?manpath=/man/man1/echo.1.inc" TargetMode="Externa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alias.1.inc" TargetMode="External"/><Relationship Id="rId2" Type="http://schemas.openxmlformats.org/officeDocument/2006/relationships/hyperlink" Target="http://linux.com.hk/man/showman.cgi?manpath=/man/man1/ar.1.inc" TargetMode="Externa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awk.1.inc" TargetMode="External"/><Relationship Id="rId2" Type="http://schemas.openxmlformats.org/officeDocument/2006/relationships/hyperlink" Target="http://linux.com.hk/man/showman.cgi?manpath=/man/man1/chown.1.inc" TargetMode="Externa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diff.1.inc" TargetMode="External"/><Relationship Id="rId2" Type="http://schemas.openxmlformats.org/officeDocument/2006/relationships/hyperlink" Target="http://linux.com.hk/man/showman.cgi?manpath=/man/man1/find.1.inc" TargetMode="Externa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grep.1.inc" TargetMode="External"/><Relationship Id="rId2" Type="http://schemas.openxmlformats.org/officeDocument/2006/relationships/hyperlink" Target="http://linux.com.hk/man/showman.cgi?manpath=/man/man1/find.1.inc" TargetMode="External"/><Relationship Id="rId3" Type="http://schemas.openxmlformats.org/officeDocument/2006/relationships/hyperlink" Target="http://linux.com.hk/man/showman.cgi?manpath=/man/man1/xargs.1.inc" TargetMode="External"/><Relationship Id="rId4" Type="http://schemas.openxmlformats.org/officeDocument/2006/relationships/hyperlink" Target="http://linux.com.hk/man/showman.cgi?manpath=/man/man1/grep.1.inc" TargetMode="External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kill.1.inc" TargetMode="External"/><Relationship Id="rId2" Type="http://schemas.openxmlformats.org/officeDocument/2006/relationships/slide" Target="slide71.xml"/><Relationship Id="rId3" Type="http://schemas.openxmlformats.org/officeDocument/2006/relationships/slide" Target="slide78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make.1.inc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sed.1.inc" TargetMode="External"/><Relationship Id="rId2" Type="http://schemas.openxmlformats.org/officeDocument/2006/relationships/hyperlink" Target="http://linux.com.hk/man/showman.cgi?manpath=/man/man1/find.1.inc" TargetMode="External"/><Relationship Id="rId3" Type="http://schemas.openxmlformats.org/officeDocument/2006/relationships/hyperlink" Target="http://linux.com.hk/man/showman.cgi?manpath=/man/man1/sed.1.inc" TargetMode="External"/><Relationship Id="rId4" Type="http://schemas.openxmlformats.org/officeDocument/2006/relationships/hyperlink" Target="http://linux.com.hk/man/showman.cgi?manpath=/man/man1/xargs.1.inc" TargetMode="External"/><Relationship Id="rId5" Type="http://schemas.openxmlformats.org/officeDocument/2006/relationships/hyperlink" Target="http://linux.com.hk/man/showman.cgi?manpath=/man/man1/grep.1.inc" TargetMode="External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tar.1.inc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bash.1.inc" TargetMode="External"/><Relationship Id="rId2" Type="http://schemas.openxmlformats.org/officeDocument/2006/relationships/hyperlink" Target="http://linux.com.hk/man/showman.cgi?manpath=/man/man1/tcsh.1.inc" TargetMode="Externa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chsh.1.inc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cat.1.inc" TargetMode="External"/><Relationship Id="rId2" Type="http://schemas.openxmlformats.org/officeDocument/2006/relationships/hyperlink" Target="http://linux.com.hk/man/showman.cgi?manpath=/man/man1/echo.1.inc" TargetMode="External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su.1.inc" TargetMode="Externa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uterworld.com/home/features.nsf/all/980817linus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chmod.1.inc" TargetMode="Externa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ln.1.in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edhat.com/" TargetMode="Externa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ps.1.inc" TargetMode="External"/><Relationship Id="rId2" Type="http://schemas.openxmlformats.org/officeDocument/2006/relationships/hyperlink" Target="http://linux.com.hk/man/showman.cgi?manpath=/man/man1/jobs.1.inc" TargetMode="External"/><Relationship Id="rId3" Type="http://schemas.openxmlformats.org/officeDocument/2006/relationships/hyperlink" Target="http://linux.com.hk/man/showman.cgi?manpath=/man/man1/kill.1.inc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http://linux.com.hk/man/showman.cgi?manpath=/man/man1/su.1.inc" TargetMode="External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gnu.org/software/gcc/gcc.html" TargetMode="External"/><Relationship Id="rId2" Type="http://schemas.openxmlformats.org/officeDocument/2006/relationships/hyperlink" Target="http://www.gnu.org/software/gcc/gcc.html" TargetMode="External"/><Relationship Id="rId3" Type="http://schemas.openxmlformats.org/officeDocument/2006/relationships/hyperlink" Target="http://www.cygnus.com/pubs/gnupro/5_ut/c_Usingbinutils/bin.html" TargetMode="External"/><Relationship Id="rId4" Type="http://schemas.openxmlformats.org/officeDocument/2006/relationships/hyperlink" Target="http://www.cygnus.com/pubs/gnupro/5_ut/c_Usingbinutils/bin.html" TargetMode="External"/><Relationship Id="rId5" Type="http://schemas.openxmlformats.org/officeDocument/2006/relationships/hyperlink" Target="http://www.lightlink.com/hessling/Regina/index.html" TargetMode="External"/><Relationship Id="rId6" Type="http://schemas.openxmlformats.org/officeDocument/2006/relationships/hyperlink" Target="http://www.lightlink.com/hessling/THE/index.html" TargetMode="External"/><Relationship Id="rId7" Type="http://schemas.openxmlformats.org/officeDocument/2006/relationships/hyperlink" Target="http://www.faqs.org/rfcs/rfc1440.html" TargetMode="External"/><Relationship Id="rId8" Type="http://schemas.openxmlformats.org/officeDocument/2006/relationships/hyperlink" Target="http://www.x.org/about_x.htm" TargetMode="External"/><Relationship Id="rId9" Type="http://schemas.openxmlformats.org/officeDocument/2006/relationships/hyperlink" Target="http://www.openldap.org/" TargetMode="External"/><Relationship Id="rId10" Type="http://schemas.openxmlformats.org/officeDocument/2006/relationships/hyperlink" Target="http://www.imap.org/" TargetMode="External"/><Relationship Id="rId11" Type="http://schemas.openxmlformats.org/officeDocument/2006/relationships/hyperlink" Target="http://www.sendmail.org/" TargetMode="External"/><Relationship Id="rId12" Type="http://schemas.openxmlformats.org/officeDocument/2006/relationships/hyperlink" Target="http://www.isc.org/products/bind" TargetMode="External"/><Relationship Id="rId13" Type="http://schemas.openxmlformats.org/officeDocument/2006/relationships/hyperlink" Target="http://www.redhat.com/support/manuals/RHL-6.1-Manual/ref-guide/ch-rpm.html" TargetMode="External"/><Relationship Id="rId14" Type="http://schemas.openxmlformats.org/officeDocument/2006/relationships/hyperlink" Target="http://us1.samba.org/samba/samba.html" TargetMode="External"/><Relationship Id="rId15" Type="http://schemas.openxmlformats.org/officeDocument/2006/relationships/hyperlink" Target="http://www.apache.org/" TargetMode="External"/><Relationship Id="rId16" Type="http://schemas.openxmlformats.org/officeDocument/2006/relationships/hyperlink" Target="http://www.perl.or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390.ibm.com/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linux390.org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 Introduction to </a:t>
            </a:r>
            <a:r>
              <a:rPr b="0" lang="en-US" sz="40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Linu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2440" y="2612880"/>
            <a:ext cx="818208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linux39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03680" y="2444760"/>
            <a:ext cx="4240080" cy="1720800"/>
          </a:xfrm>
          <a:prstGeom prst="rect">
            <a:avLst/>
          </a:prstGeom>
          <a:ln w="0">
            <a:noFill/>
          </a:ln>
        </p:spPr>
      </p:pic>
      <p:pic>
        <p:nvPicPr>
          <p:cNvPr id="87" name="Penguinvm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54520" y="433224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34800" y="6049800"/>
            <a:ext cx="30895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st updated: </a:t>
            </a:r>
            <a:fld id="{50300E74-1069-416D-BC0D-894D4A425962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1, 2026</a:t>
            </a:fld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t 08: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08760" y="3189600"/>
            <a:ext cx="5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ging 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nect to the Linux system using tel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t100, vt220, vt3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wind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le to login more than once with same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‘MW’ problem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BM Software Announc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B2 Universal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rc AFS (distributed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emand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tus Domino R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Sp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v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’s place in the mark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 is viable in many key applicatio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 has moved from small technical projects to significant deplo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BM claims to be fully supportive of Linu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ir heterogeneous strate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source suppor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, software, and service offe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Available Commercial Softw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site Develo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Wedit, HTML edi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ress DataWEB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Z-ED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Sc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lentSoft Web+ (WebPlu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Flex 1.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 pro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Cross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adTrack WebTailor from Webthrea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-tree Pl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enti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Com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IX-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st Logic/SQ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 Texp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2400" y="1885680"/>
            <a:ext cx="4334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ddb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ma Database Manager++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ress Embedded RDB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ID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locis Database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ard 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Visualization and C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L (Interactive Data Language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gahedr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plot 7.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CA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K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VSc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velopment To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UCOBOL-G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zi! Prolog &amp; Logic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mark QuickBAS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ical Mass CM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ft Fortran 7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es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E Eiff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ffelBen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-Forge I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Fi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-tre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I C++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horos Pro 2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velopment To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Car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Manual Rel 3.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ical Mass Reac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Standard Metric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-tre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oc (Source Documenter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22400" y="1885680"/>
            <a:ext cx="41943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DIT, S/REX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iFF+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/X (Smalltalk/X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b (Tcl Debugger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prof (Tcl Profiler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Designer/X (VDX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Bas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ove 4.0 for Linu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mulation To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ul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or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bi 2.2 for OpenLinu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nancial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B Stock Pro and BB Stock Too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C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ging 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you can use it you must login by specifying your account and passwor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49400" y="2895480"/>
            <a:ext cx="8746920" cy="2676240"/>
            <a:chOff x="149400" y="2895480"/>
            <a:chExt cx="8746920" cy="2676240"/>
          </a:xfrm>
        </p:grpSpPr>
        <p:sp>
          <p:nvSpPr>
            <p:cNvPr id="113" name=""/>
            <p:cNvSpPr/>
            <p:nvPr/>
          </p:nvSpPr>
          <p:spPr>
            <a:xfrm>
              <a:off x="534960" y="3368520"/>
              <a:ext cx="8361360" cy="22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</a:rPr>
                <a:t>Linux 2.2.13 (penguinvm.princeton.edu) (ttyp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</a:rPr>
                <a:t>penguinvm login: nea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</a:rPr>
                <a:t>Password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</a:rPr>
                <a:t>Last login: Tue Jan  4 10:13:13 from linuxtcp.princeton.ed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</a:rPr>
                <a:t>[neale@penguinvm neale]$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9400" y="2895480"/>
              <a:ext cx="4501800" cy="1271880"/>
            </a:xfrm>
            <a:custGeom>
              <a:avLst/>
              <a:gdLst/>
              <a:ahLst/>
              <a:rect l="l" t="t" r="r" b="b"/>
              <a:pathLst>
                <a:path w="2813" h="1246">
                  <a:moveTo>
                    <a:pt x="2811" y="0"/>
                  </a:moveTo>
                  <a:lnTo>
                    <a:pt x="2813" y="116"/>
                  </a:lnTo>
                  <a:lnTo>
                    <a:pt x="0" y="116"/>
                  </a:lnTo>
                  <a:lnTo>
                    <a:pt x="0" y="1246"/>
                  </a:lnTo>
                  <a:lnTo>
                    <a:pt x="218" y="12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54400" y="2895480"/>
              <a:ext cx="4660920" cy="1582920"/>
            </a:xfrm>
            <a:custGeom>
              <a:avLst/>
              <a:gdLst/>
              <a:ahLst/>
              <a:rect l="l" t="t" r="r" b="b"/>
              <a:pathLst>
                <a:path w="3076" h="1488">
                  <a:moveTo>
                    <a:pt x="3072" y="0"/>
                  </a:moveTo>
                  <a:lnTo>
                    <a:pt x="3076" y="1488"/>
                  </a:lnTo>
                  <a:lnTo>
                    <a:pt x="0" y="14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brar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ntScop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rix&lt;LIB&gt; - C++ Math Matrix Libra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KWARE Data Compression Library for Linu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yB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LIB I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themat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le V Release 4 - The Power Ed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COM and MATCOM MATH LIBRA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 3.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LAB and Simu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med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ter Lipa and his Journey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cka Vondrackova and her Journey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egTV Player 1.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ter Nagy and his Journey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a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Serv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Angle X.500 Enab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EWS News Serv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entail Internet Policy Manag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entail VP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NPIP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us Web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ffice To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39760" y="1885680"/>
            <a:ext cx="4230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el WordPerfect 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merican Heritage Dictionary Delux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xware Office Su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M.S. Document Management Syst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Wire EasyFA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S, the Network Extensible Spreadshe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2400" y="1885680"/>
            <a:ext cx="4349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xene Off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or and Projector/N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irtual Office Syst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xene XAllWri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xene Xclam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xene XQu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xt Proces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h Pro for X1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aSpell 97 for Ema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Administ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Facto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ectBACKUP+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n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X Windows Relat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lerated-X Display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Xwidge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Xwidgets/DB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top, Accelerated-X Display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245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um cde Developer's Edition v1.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headed, Accelerated-X Display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GL, Accelerated-X Display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F-Certified Mo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ACUS 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BB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us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otPri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addin Ghostscrip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ici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urnyx Web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af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jetMg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ize/CyberSchedu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ditional 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UNIX Systems Administrator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ugu.com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Linux/390 Observations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penguinvm.princeton.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Introduction to Lin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Introduction to UN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ux/390 Insta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Linux Administration Made Ea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linuxninja.com/linux-admin/book1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Conceptual software architecture of the Linux ker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ule Number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4240" y="1790640"/>
            <a:ext cx="817884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login as root unless you have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is the system superuser (the “maint” of Linux but more “dangerou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protection mechanisms can be overrid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less use can cause da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access to everything by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is the only user defined when you inst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thing is to change root’s 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cond job is to define “normal” users for everyday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ditional 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linux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tux.or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li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ating a new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useradd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passwd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and to set passw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it… logon as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657600"/>
            <a:ext cx="7925040" cy="2775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root@penguinvm]# useradd scu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root@penguinvm]# passwd scu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ging password for user scu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UNIX passwor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ype new UNIX passwor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sswd: all authentication tokens updated successfu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root@penguinvm]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ding a new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s on users can be controll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lim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ity levels for a user controlled by group memb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s and Grou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7982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identified by user identifications (UIDs), each of which is associated with an integer in the range of 0 t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294 967 29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’FFFFFFFF’). Users with UID=0 are given superuser privileg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placed in groups, identified by group identifications (GIDs). Each GID is associated with an integer in the range from 0 to 4 294 967 2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the system assign UID to avoid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isplay your user and group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905040" y="5565600"/>
            <a:ext cx="788004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id=500(neale) gid=500(neale) groups=500(neale),3(sys),4(a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s and Grou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s define functional areas/responsi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llow a collection of users to share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user can belong to multiple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see what groups you belong to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ou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man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85960" y="4516920"/>
            <a:ext cx="71215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ale sys a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ical Group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924200"/>
          <a:ext cx="8178840" cy="40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24200"/>
                    <a:ext cx="817884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ng the new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logoff using the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ex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n as the new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276720"/>
            <a:ext cx="8182080" cy="176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ux 2.2.13 (penguinvm.princeton.edu) (ttyp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nguinvm login: scu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sswor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scully@penguinvm scully]$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need help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inux equivalent of HELP is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ma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anu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n -k &lt;keyword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find all commands with that key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n &lt;command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isplay help for that 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is presented a page at a time.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to scroll backwar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a space to scroll forward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q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veland Linux Users’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Linux (Jeff Gilton &amp; Jim Weiri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B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troduction to Linux (Al Henders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Linux is storming the market (Jonathan Pr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van Bow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ual software architecture of the Linux ker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Linux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51320" y="2525760"/>
          <a:ext cx="815184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1320" y="2525760"/>
                    <a:ext cx="8151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85800" y="175248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 commands includes executable programs and scri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198108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590920"/>
            <a:ext cx="312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hell interprets user commands. It is responsible for finding the commands and starting their execution. Several different shells are available. Bash is popula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rnel manages the hardware resources for the rest of the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1240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438280" y="38862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 File System Bas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 files are stored in a single rooted, hierarchical fi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iles are stored in directories (fold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ies may be nested as deep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800600" y="33526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352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76720" y="1905120"/>
            <a:ext cx="5486400" cy="4763880"/>
            <a:chOff x="3276720" y="1905120"/>
            <a:chExt cx="5486400" cy="4763880"/>
          </a:xfrm>
        </p:grpSpPr>
        <p:grpSp>
          <p:nvGrpSpPr>
            <p:cNvPr id="151" name=""/>
            <p:cNvGrpSpPr/>
            <p:nvPr/>
          </p:nvGrpSpPr>
          <p:grpSpPr>
            <a:xfrm>
              <a:off x="3276720" y="1905120"/>
              <a:ext cx="5486400" cy="4763880"/>
              <a:chOff x="3276720" y="1905120"/>
              <a:chExt cx="5486400" cy="4763880"/>
            </a:xfrm>
          </p:grpSpPr>
          <p:sp>
            <p:nvSpPr>
              <p:cNvPr id="152" name=""/>
              <p:cNvSpPr/>
              <p:nvPr/>
            </p:nvSpPr>
            <p:spPr>
              <a:xfrm>
                <a:off x="6477120" y="1905120"/>
                <a:ext cx="9144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895480"/>
                <a:ext cx="9144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77120" y="2895480"/>
                <a:ext cx="9144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848720" y="2895480"/>
                <a:ext cx="9144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43400" y="3733920"/>
                <a:ext cx="9144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86400" y="3733920"/>
                <a:ext cx="9144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4876920"/>
                <a:ext cx="9144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24480" y="4876920"/>
                <a:ext cx="9144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696080" y="4876920"/>
                <a:ext cx="9144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14800" y="5867280"/>
                <a:ext cx="9144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57800" y="5867280"/>
                <a:ext cx="9144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34320" y="23623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257800" y="2361960"/>
                <a:ext cx="1676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934320" y="2362320"/>
                <a:ext cx="13716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934320" y="33526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81480" y="4572000"/>
                <a:ext cx="1752840" cy="304920"/>
              </a:xfrm>
              <a:custGeom>
                <a:avLst/>
                <a:gdLst/>
                <a:ahLst/>
                <a:rect l="l" t="t" r="r" b="b"/>
                <a:pathLst>
                  <a:path w="1104" h="192">
                    <a:moveTo>
                      <a:pt x="0" y="192"/>
                    </a:moveTo>
                    <a:lnTo>
                      <a:pt x="1" y="3"/>
                    </a:lnTo>
                    <a:lnTo>
                      <a:pt x="11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934320" y="4572000"/>
                <a:ext cx="1218960" cy="304920"/>
              </a:xfrm>
              <a:custGeom>
                <a:avLst/>
                <a:gdLst/>
                <a:ahLst/>
                <a:rect l="l" t="t" r="r" b="b"/>
                <a:pathLst>
                  <a:path w="768" h="192">
                    <a:moveTo>
                      <a:pt x="0" y="0"/>
                    </a:moveTo>
                    <a:lnTo>
                      <a:pt x="767" y="3"/>
                    </a:lnTo>
                    <a:lnTo>
                      <a:pt x="768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4571640" y="533412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81480" y="533412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6781680" y="45716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6934320" y="1981080"/>
                <a:ext cx="95040" cy="362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/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5105520" y="2971800"/>
                <a:ext cx="485640" cy="361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etc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6553080" y="2971800"/>
                <a:ext cx="819360" cy="361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home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8077320" y="2971800"/>
                <a:ext cx="495360" cy="361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usr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4419720" y="3809880"/>
                <a:ext cx="77148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passwd</a:t>
                </a:r>
                <a:endPara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5638680" y="3809880"/>
                <a:ext cx="62892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nittab</a:t>
                </a:r>
                <a:endPara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886280" y="4971960"/>
                <a:ext cx="600120" cy="285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neale</a:t>
                </a:r>
                <a:endPara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6400800" y="4971960"/>
                <a:ext cx="714240" cy="285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cully</a:t>
                </a:r>
                <a:endPara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7848720" y="4971960"/>
                <a:ext cx="685800" cy="285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marty</a:t>
                </a:r>
                <a:endPara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4494240" y="5962680"/>
                <a:ext cx="152280" cy="285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5591160" y="5962680"/>
                <a:ext cx="152280" cy="285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b</a:t>
                </a:r>
                <a:endPara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46520" y="1981080"/>
                <a:ext cx="129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irecto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05520" y="2286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38680" y="21337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76720" y="4191120"/>
                <a:ext cx="1369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ser home directo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95800" y="4510080"/>
                <a:ext cx="37620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8800" y="6086520"/>
                <a:ext cx="11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 fil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14840" y="6458040"/>
                <a:ext cx="2571840" cy="210960"/>
              </a:xfrm>
              <a:custGeom>
                <a:avLst/>
                <a:gdLst/>
                <a:ahLst/>
                <a:rect l="l" t="t" r="r" b="b"/>
                <a:pathLst>
                  <a:path w="1620" h="133">
                    <a:moveTo>
                      <a:pt x="1620" y="0"/>
                    </a:moveTo>
                    <a:lnTo>
                      <a:pt x="1620" y="133"/>
                    </a:lnTo>
                    <a:lnTo>
                      <a:pt x="0" y="133"/>
                    </a:lnTo>
                    <a:lnTo>
                      <a:pt x="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295680" y="6248520"/>
                <a:ext cx="48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7921800" y="1997640"/>
              <a:ext cx="4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482960" y="2149560"/>
              <a:ext cx="34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ing Fi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s are nam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each containing direc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ing at the 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ath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178080" y="1905120"/>
            <a:ext cx="5585040" cy="4488480"/>
            <a:chOff x="3178080" y="1905120"/>
            <a:chExt cx="5585040" cy="4488480"/>
          </a:xfrm>
        </p:grpSpPr>
        <p:sp>
          <p:nvSpPr>
            <p:cNvPr id="196" name=""/>
            <p:cNvSpPr/>
            <p:nvPr/>
          </p:nvSpPr>
          <p:spPr>
            <a:xfrm>
              <a:off x="6477120" y="190512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6920" y="289548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77120" y="289548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48720" y="289548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43400" y="373392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373392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24280" y="487692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24480" y="487692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96080" y="487692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14800" y="586728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57800" y="586728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3432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257800" y="2361960"/>
              <a:ext cx="1676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34320" y="23623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4320" y="3352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1480" y="4572000"/>
              <a:ext cx="1752840" cy="304920"/>
            </a:xfrm>
            <a:custGeom>
              <a:avLst/>
              <a:gdLst/>
              <a:ahLst/>
              <a:rect l="l" t="t" r="r" b="b"/>
              <a:pathLst>
                <a:path w="1104" h="192">
                  <a:moveTo>
                    <a:pt x="0" y="192"/>
                  </a:moveTo>
                  <a:lnTo>
                    <a:pt x="1" y="3"/>
                  </a:lnTo>
                  <a:lnTo>
                    <a:pt x="11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34320" y="4572000"/>
              <a:ext cx="1218960" cy="304920"/>
            </a:xfrm>
            <a:custGeom>
              <a:avLst/>
              <a:gdLst/>
              <a:ahLst/>
              <a:rect l="l" t="t" r="r" b="b"/>
              <a:pathLst>
                <a:path w="768" h="192">
                  <a:moveTo>
                    <a:pt x="0" y="0"/>
                  </a:moveTo>
                  <a:lnTo>
                    <a:pt x="767" y="3"/>
                  </a:lnTo>
                  <a:lnTo>
                    <a:pt x="768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571640" y="5334120"/>
              <a:ext cx="609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81480" y="53341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81680" y="4571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6934320" y="1981080"/>
              <a:ext cx="9504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/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5105520" y="2971800"/>
              <a:ext cx="48564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tc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6553080" y="2971800"/>
              <a:ext cx="8193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ome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8077320" y="2971800"/>
              <a:ext cx="4953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sr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419720" y="3809880"/>
              <a:ext cx="77148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sswd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5638680" y="3809880"/>
              <a:ext cx="6289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nittab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4886280" y="4971960"/>
              <a:ext cx="60012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eale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6400800" y="4971960"/>
              <a:ext cx="71424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ully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7848720" y="4971960"/>
              <a:ext cx="68580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arty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4494240" y="5962680"/>
              <a:ext cx="15228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591160" y="5962680"/>
              <a:ext cx="15228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78080" y="4352760"/>
              <a:ext cx="13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etc/passw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616280" y="4268880"/>
              <a:ext cx="36360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78800" y="6086520"/>
              <a:ext cx="17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home/neale/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95680" y="6248520"/>
              <a:ext cx="48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>
            <a:off x="4811400" y="3352680"/>
            <a:ext cx="53172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56080" y="3352680"/>
            <a:ext cx="5940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urrent Direct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2760" y="1804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directory is designated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urrent working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omit the lea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n path name is relative to the current working direc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w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find out where you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789440" y="3067200"/>
            <a:ext cx="55728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57880" y="3054240"/>
            <a:ext cx="6192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351160" y="1606680"/>
            <a:ext cx="6426000" cy="4419360"/>
            <a:chOff x="2351160" y="1606680"/>
            <a:chExt cx="6426000" cy="4419360"/>
          </a:xfrm>
        </p:grpSpPr>
        <p:sp>
          <p:nvSpPr>
            <p:cNvPr id="238" name=""/>
            <p:cNvSpPr/>
            <p:nvPr/>
          </p:nvSpPr>
          <p:spPr>
            <a:xfrm>
              <a:off x="6491160" y="160668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90960" y="259704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91160" y="259704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2760" y="259704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57800" y="343548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00800" y="343548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38680" y="457848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38880" y="457848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10480" y="457848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29200" y="556884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72200" y="5568840"/>
              <a:ext cx="9144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48360" y="20638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272200" y="2063520"/>
              <a:ext cx="1676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48360" y="206388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48360" y="30542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95880" y="4273560"/>
              <a:ext cx="1752480" cy="304920"/>
            </a:xfrm>
            <a:custGeom>
              <a:avLst/>
              <a:gdLst/>
              <a:ahLst/>
              <a:rect l="l" t="t" r="r" b="b"/>
              <a:pathLst>
                <a:path w="1104" h="192">
                  <a:moveTo>
                    <a:pt x="0" y="192"/>
                  </a:moveTo>
                  <a:lnTo>
                    <a:pt x="1" y="3"/>
                  </a:lnTo>
                  <a:lnTo>
                    <a:pt x="11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48360" y="4273560"/>
              <a:ext cx="1219320" cy="304920"/>
            </a:xfrm>
            <a:custGeom>
              <a:avLst/>
              <a:gdLst/>
              <a:ahLst/>
              <a:rect l="l" t="t" r="r" b="b"/>
              <a:pathLst>
                <a:path w="768" h="192">
                  <a:moveTo>
                    <a:pt x="0" y="0"/>
                  </a:moveTo>
                  <a:lnTo>
                    <a:pt x="767" y="3"/>
                  </a:lnTo>
                  <a:lnTo>
                    <a:pt x="768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586040" y="5035680"/>
              <a:ext cx="609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95880" y="50356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796080" y="4273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948360" y="1682640"/>
              <a:ext cx="954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/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5119560" y="2673360"/>
              <a:ext cx="486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tc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6567480" y="2673360"/>
              <a:ext cx="819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ome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8091360" y="2673360"/>
              <a:ext cx="4953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sr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433760" y="3511440"/>
              <a:ext cx="77148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sswd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5653080" y="3511440"/>
              <a:ext cx="62856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nittab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4900680" y="4673520"/>
              <a:ext cx="60012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eale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6415200" y="4673520"/>
              <a:ext cx="71424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ully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7862760" y="4673520"/>
              <a:ext cx="68580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arty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508640" y="5664240"/>
              <a:ext cx="15228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5505480" y="5638680"/>
              <a:ext cx="44928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c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51160" y="5452920"/>
              <a:ext cx="136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urrent working dir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714840" y="4924080"/>
              <a:ext cx="895320" cy="7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280120" y="624060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737320" y="60087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56080" y="6335640"/>
            <a:ext cx="714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tter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6421320" y="5889600"/>
            <a:ext cx="2548080" cy="76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91440" anchor="t">
            <a:spAutoFit/>
          </a:bodyPr>
          <a:p>
            <a:pPr>
              <a:lnSpc>
                <a:spcPct val="30000"/>
              </a:lnSpc>
              <a:spcBef>
                <a:spcPts val="876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/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/doc/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home/neale/doc/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246360" y="6383160"/>
            <a:ext cx="17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191280" y="6281640"/>
            <a:ext cx="231840" cy="1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Special File Na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file names are speci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The root directory (not to be confused with the root u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The current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arent (previous)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My home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/a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ame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/jane/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go up one level then look in directo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ecial Fi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ho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ll users’ home directories are stored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b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usr/b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system comm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sb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usr/sb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commands used by sysadm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et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ll sorts of configuration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v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logs, spool directories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de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device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pro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special system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 Command Bas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execute a command, type its name and arguments at the command 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2927520" y="3363840"/>
            <a:ext cx="24796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s -l /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03240" y="433080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967040" y="3847680"/>
            <a:ext cx="1187280" cy="53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52760" y="4622760"/>
            <a:ext cx="9763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la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946680" y="3848040"/>
            <a:ext cx="0" cy="74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18280" y="435456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885920" y="3858840"/>
            <a:ext cx="105084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ndard Fi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X concept of “standard file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input (where a command gets its input) - default is the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utput (where a command writes it output) - default is the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error (where a command writes error messages) - default is the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directing Outp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utput of a command may be sent (piped) to a fi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2314440" y="3056040"/>
            <a:ext cx="27576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l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-l &gt;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53080" y="3699000"/>
            <a:ext cx="211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” is used to specify the 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87760" y="3379680"/>
            <a:ext cx="2041560" cy="519120"/>
          </a:xfrm>
          <a:custGeom>
            <a:avLst/>
            <a:gdLst/>
            <a:ahLst/>
            <a:rect l="l" t="t" r="r" b="b"/>
            <a:pathLst>
              <a:path w="1286" h="281">
                <a:moveTo>
                  <a:pt x="1286" y="281"/>
                </a:moveTo>
                <a:lnTo>
                  <a:pt x="0" y="2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directing Inp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put of a command may come (be piped) from a fi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314440" y="3056040"/>
            <a:ext cx="5430960" cy="1210680"/>
            <a:chOff x="2314440" y="3056040"/>
            <a:chExt cx="5430960" cy="1210680"/>
          </a:xfrm>
        </p:grpSpPr>
        <p:sp>
          <p:nvSpPr>
            <p:cNvPr id="300" name=""/>
            <p:cNvSpPr/>
            <p:nvPr/>
          </p:nvSpPr>
          <p:spPr>
            <a:xfrm>
              <a:off x="2314440" y="3056040"/>
              <a:ext cx="275760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c &lt;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9320" y="3686040"/>
              <a:ext cx="211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” is used to specify the input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68640" y="3368520"/>
              <a:ext cx="2549520" cy="519120"/>
            </a:xfrm>
            <a:custGeom>
              <a:avLst/>
              <a:gdLst/>
              <a:ahLst/>
              <a:rect l="l" t="t" r="r" b="b"/>
              <a:pathLst>
                <a:path w="1286" h="281">
                  <a:moveTo>
                    <a:pt x="1286" y="281"/>
                  </a:moveTo>
                  <a:lnTo>
                    <a:pt x="0" y="28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quick guide to Linu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Lin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/390 Specif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 in the Market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rcial Linux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necting commands with Pip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s powerful as CMS Pipes but the same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utput of one command can become the input of anoth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500200" y="4317840"/>
            <a:ext cx="43419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ux |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gre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tscape |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Courier New"/>
                <a:hlinkClick r:id="rId3"/>
              </a:rPr>
              <a:t>w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9800" y="506088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utput of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mand is sent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597040" y="4602240"/>
            <a:ext cx="335160" cy="66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1640" y="5753160"/>
            <a:ext cx="39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akes input and searches for “netscape” passing these lines to w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441680" y="4501800"/>
            <a:ext cx="0" cy="13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70560" y="4960800"/>
            <a:ext cx="25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akes this input and counts the lines its output going to the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6408360" y="4589280"/>
            <a:ext cx="35892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22880" y="358776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CMS Pipes, “|” is used to separate s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851080" y="3909960"/>
            <a:ext cx="32076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and Op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and options allow you to control a command to a certain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ing with a single dash and are a single letter (“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have double dashes followed by a keyword (“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-hel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follow no pattern at 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on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pw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print (display) the working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dir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change the current working directory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3"/>
              </a:rPr>
              <a:t>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list the files in the current working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4"/>
              </a:rPr>
              <a:t>l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-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list the files in the current working directory in long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le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31280" y="168768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c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&lt;fromfile&gt; &lt;tofil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y from the &lt;fromfile&gt; to the &lt;tofile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mv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&lt;fromfile&gt; &lt;tofil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/rename the &lt;fromfile&gt; to the &lt;tofile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3"/>
              </a:rPr>
              <a:t>r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&lt;fil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the file named &lt;file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4"/>
              </a:rPr>
              <a:t>mkdi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&lt;newdir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new directory called &lt;newdi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5"/>
              </a:rPr>
              <a:t>rmdi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&lt;dir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an (empty) direc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who is currently logged on to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who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 what user you are logged on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3"/>
              </a:rPr>
              <a:t>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your processes on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4"/>
              </a:rPr>
              <a:t>p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au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all the processes on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5"/>
              </a:rPr>
              <a:t>ech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“A string to be echoe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ho a string (or list of arguments) to the 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alia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used to tailor comman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lias erase=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lias grep=”grep -i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aintain archive libraries: a collection of files (usually object files which may be linked to a program, like a CMS TXTLI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199120"/>
            <a:ext cx="7040880" cy="67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 -t libgdbm.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__.SYMD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bmopen.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awk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ile processing language that is well suited to data manipulation and retrieval of information from text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chown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the user ID (UID) to owner for the files and directories named by pathname arguments. This command is useful when from test to p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5281560"/>
            <a:ext cx="742788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own -R apache:httpd /usr/local/ap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dif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ttempts to determine the minimal set of changes needed to convert a file specified by the first argument into the file specified by the second arg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es a given file hierarchy specified by path, finding files that match the criteria given by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grep</a:t>
            </a:r>
            <a:r>
              <a:rPr b="0" lang="en-US" sz="3200" spc="-1" strike="noStrike">
                <a:solidFill>
                  <a:srgbClr val="000000"/>
                </a:solidFill>
                <a:latin typeface="Helvetica-BoldObliqu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es files for one or more pattern arguments. It does plain string, basic regular expression, and extended regular expression sear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825480" y="4221000"/>
            <a:ext cx="796752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fi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./ -name "*.c" |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Courier New"/>
                <a:hlinkClick r:id="rId3"/>
              </a:rPr>
              <a:t>xarg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Courier New"/>
                <a:hlinkClick r:id="rId4"/>
              </a:rPr>
              <a:t>gre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-i "fork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6920" y="4835880"/>
            <a:ext cx="7945560" cy="111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this example, we look for files with an extension “c” (that is, C source files). The filenames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d are passed to the xargs command which takes these names and constructs a command li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f the form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ep -i fork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&lt;file.1&gt;…&lt;file.n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s command will search the files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currence of the string “fork”. The 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” flag makes the search case insensit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ki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sends a signal to a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proces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or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 action="ppaction://hlinksldjump"/>
              </a:rPr>
              <a:t>process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only kill your own processes unless you are 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512640" y="4059360"/>
            <a:ext cx="828216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D        PID  PPID  C STIME TTY          TIME C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      6715  6692  2 14:34 ttyp0    00:00:00 sleep 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      6716  6692  0 14:34 ttyp0    00:00:00 ps -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oot@penguinvm log]# kill 67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1]+  Terminated              sleep 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Linu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ully-networked 32/64-Bit Unix-like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x Tools Like sed, awk, and grep (explained la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rs Like C, C++, Fortran, Smalltalk, Ad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ools Like telnet, ftp, ping, tracerou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user, Multitasking, Multipro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the X Windows GU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exists with other Operating Syste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s on multiple platfor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the Source C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10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helps you manage projects containing a set of interdependent files (e.g. a program with many source and object files; a document built from source files; macro file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eeps all such files up to date with one another: If one file changes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pdates all the other files that depend on the changed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ghly the equivalent of VMFB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01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s a set of editing subcommands contained in a script to each argument input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488880" y="3656160"/>
            <a:ext cx="83041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fi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./ -name "*.c,v" |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Courier New"/>
                <a:hlinkClick r:id="rId3"/>
              </a:rPr>
              <a:t>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’s/,v//g’ |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Courier New"/>
                <a:hlinkClick r:id="rId4"/>
              </a:rPr>
              <a:t>xarg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Courier New"/>
                <a:hlinkClick r:id="rId5"/>
              </a:rPr>
              <a:t>gre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"PAT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8880" y="4413240"/>
            <a:ext cx="8290080" cy="106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all files in the current and subsequent directories with an extension of c,v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hen strips the ,v off the results of the find command.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arg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hen uses the results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builds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e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mmand which searches for occurrences of the word PATH in the C source fi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Comma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t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manipulates arch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rchive is a single file that contains the complete contents of a set of other files; an archive preserves the directory  hierarchy that contained the original files. Similary to a VMARC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695160" y="4389480"/>
            <a:ext cx="7877520" cy="173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 -tzf imap-4.7.tar.g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ap-4.7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ap-4.7/src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ap-4.7/src/c-clien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ap-4.7/src/c-client/env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ap-4.7/src/c-client/fs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e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interface between the Linux system and the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call commands and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ful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ll scripts” = .bat .cmd EXEC RE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available (bsh; ksh; csh;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bas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cs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09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other definition of a Sh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hell is any program that takes input from the user, translates it into instructions that the operating system can understand, and conveys the operating system's output back to the us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.e. Any User Interf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 Based v Graphics Bas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Why Do I Care About The Shell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ell is Not Integral Part of 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X Among First to Separ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e to MS-DOS, Mac, Win95, VM/C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 is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Shell Can Be Configu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ch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s /bin/bas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etc/passw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s To Customize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8178840" cy="27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!/bin/ba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ca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somefile &gt; /dev/n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echo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ell Scrip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939600" y="4942800"/>
            <a:ext cx="3594600" cy="106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 fore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PE &lt; SOME FILE | hol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y ‘.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Us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&lt;account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user accounts. You will be prompted for a password. When this command completes, you will be logged into the new account.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 to the previous ac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o the root user account. Do not do this ligh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oot user does not need to enter a password when switching users. It may become any user desired. This is part of the power of the root accou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 Variab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03240"/>
            <a:ext cx="849168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vironment variables are global settings that control the function of the shell and other Linux programs. They are sometimes referred to global shell variab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=/home/fred/do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port TERM=an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NAME=`uname -n`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GLOBALV SET … in C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 Variab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1360" y="1885680"/>
            <a:ext cx="8972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Environment Variab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echo $V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d $V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d $HO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echo “You are running on $SYSTEMNAME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ing - use the following comman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displays local &amp; env. V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s can be retrieved by a script or a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ere did it come from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Linus Torval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reated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assistance from programmers around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posted on Internet in 199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ux 1.0 in 1994; 2.2 in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used on 7-10 million compu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1000’s of programmers working to enhanc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Important Environment Variab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home directory (often be abbreviated as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of terminal you are running (for example vt100, xterm, and an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W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working direc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directories to search for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9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 Environment Vari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12760" y="1885680"/>
            <a:ext cx="8709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where commands are f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is a list of directory pathnames separated by colons. For 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TH=/bin:/usr/bin:/usr/X11R6/bin:/usr/local/bin:/home/scully/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 command does not contain a slash, the shell tries finding the command in each directory in PATH. The first match is the command that will r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 Environment Vari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setting the CMS search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set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etc/profil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like the SYSPROF EXE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modified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~/.profi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like the PROFILE EXE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le Permis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fi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owned by someo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ongs to a grou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certain access permissions for owner, group, and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permissions determin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m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le Permission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us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a uid (login name), gid (login group) and membership of a "groups"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who you are (name and number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your initial “login group” you normally belong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roups 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file groups you can access via group per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le Permis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ux provides three kinds of permiss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- users with read permission may read the file or list the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- users with write permission may write to the file or new files to the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e - users with execute permission may execute the file or lookup a specific file within a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le Permis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 version of a file listing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s -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will display the file permiss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581040" y="3327480"/>
            <a:ext cx="8078760" cy="1310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rwxrwxr-x   1 rvdheij  rvdheij      5224 Dec 30 03:22 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rw-rw-r--   1 rvdheij  rvdheij       221 Dec 30 03:59 hello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rw-rw-r--   1 rvdheij  rvdheij      1514 Dec 30 03:59 hello.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wxrwxr-x   7 rvdheij  rvdheij      1024 Dec 31 14:52 posixu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9200" y="49975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63680" y="5691240"/>
            <a:ext cx="8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86040" y="49849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298520" y="4465440"/>
            <a:ext cx="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720880" y="4465440"/>
            <a:ext cx="0" cy="11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44960" y="4454280"/>
            <a:ext cx="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preting File Permis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"/>
          <p:cNvSpPr/>
          <p:nvPr/>
        </p:nvSpPr>
        <p:spPr>
          <a:xfrm>
            <a:off x="1008000" y="2865600"/>
            <a:ext cx="30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-rwxrwxrw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64080" y="3451320"/>
            <a:ext cx="4094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er 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 flag (d=directory; l=li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76480" y="3228840"/>
            <a:ext cx="3427200" cy="1793880"/>
          </a:xfrm>
          <a:custGeom>
            <a:avLst/>
            <a:gdLst/>
            <a:ahLst/>
            <a:rect l="l" t="t" r="r" b="b"/>
            <a:pathLst>
              <a:path w="2159" h="1130">
                <a:moveTo>
                  <a:pt x="2159" y="1130"/>
                </a:moveTo>
                <a:lnTo>
                  <a:pt x="638" y="113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11200" y="3340080"/>
            <a:ext cx="3192480" cy="1225440"/>
          </a:xfrm>
          <a:custGeom>
            <a:avLst/>
            <a:gdLst/>
            <a:ahLst/>
            <a:rect l="l" t="t" r="r" b="b"/>
            <a:pathLst>
              <a:path w="2011" h="772">
                <a:moveTo>
                  <a:pt x="2011" y="772"/>
                </a:moveTo>
                <a:lnTo>
                  <a:pt x="872" y="772"/>
                </a:lnTo>
                <a:lnTo>
                  <a:pt x="389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1760" y="3352680"/>
            <a:ext cx="2387880" cy="766800"/>
          </a:xfrm>
          <a:custGeom>
            <a:avLst/>
            <a:gdLst/>
            <a:ahLst/>
            <a:rect l="l" t="t" r="r" b="b"/>
            <a:pathLst>
              <a:path w="1504" h="483">
                <a:moveTo>
                  <a:pt x="0" y="0"/>
                </a:moveTo>
                <a:lnTo>
                  <a:pt x="359" y="0"/>
                </a:lnTo>
                <a:lnTo>
                  <a:pt x="686" y="483"/>
                </a:lnTo>
                <a:lnTo>
                  <a:pt x="1504" y="4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44800" y="3352680"/>
            <a:ext cx="1657440" cy="322560"/>
          </a:xfrm>
          <a:custGeom>
            <a:avLst/>
            <a:gdLst/>
            <a:ahLst/>
            <a:rect l="l" t="t" r="r" b="b"/>
            <a:pathLst>
              <a:path w="1044" h="203">
                <a:moveTo>
                  <a:pt x="0" y="0"/>
                </a:moveTo>
                <a:lnTo>
                  <a:pt x="350" y="0"/>
                </a:lnTo>
                <a:lnTo>
                  <a:pt x="498" y="203"/>
                </a:lnTo>
                <a:lnTo>
                  <a:pt x="1044" y="2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nging File Permis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chm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mand to change file per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ermissions are encoded as an oct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952560" y="4230720"/>
            <a:ext cx="7594560" cy="1708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mod 755 file  # Owner=rwx Group=r-x Other=r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mod 500 file2 # Owner=r-x Group=--- Other=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mod 644 file3 # Owner=rw- Group=r-- Other=r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mod +x  file  # Add execute permission to file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mod o-r file  # Remove read permission for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mod a+w file  # Add write permission for every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are references to files (alias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for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oint to files on different physical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 of original leaves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 of link leave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created for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using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l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en Sourc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programmers on the Internet can read, redistribute, and modify the source for a piece of software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evo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improve it, people adapt it, people fix bugs. And this can happen at a speed that, compared to conventional software development, seem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stoni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i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74240" y="1885680"/>
            <a:ext cx="8783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are fanatical about their edi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choices available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UNIX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DIT-like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ed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windows text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mac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ble, Customizable Self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ing Display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ic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display-oriented text edi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d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windows Motif text ed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 Device Hand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26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s are the way linux talks to the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s are special files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de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rectory (try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s /de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887400" y="3535200"/>
            <a:ext cx="7496280" cy="2561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dev/tty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TY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dev/hd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E hard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dev/hdb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tition 1 on the IDE hard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dev/mnd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M Minidisk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dev/dd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nnel Attached DA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dev/dda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tition 1 on DA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dev/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null device (“hol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dev/zer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 endless stream of zer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dev/mo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k to mouse (not /3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vices and Driv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de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le has a major and minor nu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defines the devic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or defines device within tha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s register a devic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506520" y="4281480"/>
            <a:ext cx="806616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3716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w-r--r--   1 root     root      64,   0 Jun  1  1999 /dev/m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w-r--r--   1 root     root       5,   0 Jan  5 09:18 /dev/t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72080" y="5430960"/>
            <a:ext cx="13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jor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478400" y="4689360"/>
            <a:ext cx="284040" cy="7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67400" y="540540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or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5591160" y="4776840"/>
            <a:ext cx="58104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1720" y="5316480"/>
            <a:ext cx="1768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9144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 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678960" y="4849920"/>
            <a:ext cx="482760" cy="38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ecial Files - /pro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about internal Linux processes are accessible to users via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pro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le system (in memo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927000" y="3308400"/>
          <a:ext cx="6203880" cy="133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3308400"/>
                    <a:ext cx="62038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447120" y="4665600"/>
            <a:ext cx="8227440" cy="1310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 /proc/cpu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endor_id       : IBM/S3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processors    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gomips per cpu: 86.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ssor 0: version = FF, identification = 045226, machine = 96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le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ux supports many different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ly, ext2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of 255 charac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sizes up to 2GB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oretical limit 4T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d from ext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y reliable and high perfor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le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file syst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v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CO/Xeni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nOS/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f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Win9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d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MS-DOS/W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sd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Linux/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WinNT (r/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p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OS/2 (r/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File syst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o9660 (CD-RO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NFS-li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c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Nov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LAN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le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s a file system that lives on a device to the main file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at Root file syst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nt to 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nt to points currently mounted to 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ed to establish boot time m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File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FS is designed to present a consistent view of data as stored on hard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ost all hardware devices are represented using a generic interf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FS goes further, allowing the sysadmin to mount any of a set of logical file systems on any physical devi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File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31280" y="1693800"/>
            <a:ext cx="817884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al file systems promote compatibility with other operating system standards  permitting developers to implement file systems with different polic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FS abstracts details of physical device and logical file system allowing processes to access files using a common interface, without knowing what physical or logical system the file reside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File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ous to C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d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different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/transparent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o you get i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it from the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a “Distribution” (e.g.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RedH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 ker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Windows system and GU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, e-mail, FTP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&amp; configuration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rd party ap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vfs" descr=""/>
          <p:cNvPicPr/>
          <p:nvPr/>
        </p:nvPicPr>
        <p:blipFill>
          <a:blip r:embed="rId1"/>
          <a:stretch/>
        </p:blipFill>
        <p:spPr>
          <a:xfrm>
            <a:off x="806400" y="615960"/>
            <a:ext cx="74692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s are created in a hierarchical structure whose depth is limited only by the virtual memory available to the virtual mach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control the execution of any of its descendants by suspending or resuming it, altering its relative priority, or even terminating i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ion of a process by default causes termination of all its descendants; termination of the root process causes termination of the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ux assign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cess I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ID) to the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e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command is executed from the prompt and runs to completion at which time the prompt returns is said to run in the foreg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command is executed from the prompt with the token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at the end of the command line, the prompt immediately returns while the command continues is said to run in the backg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em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processes for system administration are referred to as “daemo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processes are usually started during the boot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cesses are not assigned any termi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1031760" y="4667400"/>
            <a:ext cx="7495920" cy="137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ID        PID  PPID  C STIME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ot         5     1  0  1999 ?        00:00:14 [kswap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in        254     1  0  1999 ?        00:00:00 [portmap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ot       307     1  0  1999 ?        00:00:23 syslogd -m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ot       350     1  0  1999 ?        00:00:34 http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82600" y="1981080"/>
            <a:ext cx="8381880" cy="3224520"/>
            <a:chOff x="282600" y="1981080"/>
            <a:chExt cx="8381880" cy="3224520"/>
          </a:xfrm>
        </p:grpSpPr>
        <p:sp>
          <p:nvSpPr>
            <p:cNvPr id="436" name=""/>
            <p:cNvSpPr/>
            <p:nvPr/>
          </p:nvSpPr>
          <p:spPr>
            <a:xfrm>
              <a:off x="592200" y="2986200"/>
              <a:ext cx="8072280" cy="1465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[root@penguinvm log]# sleep 10h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[1] 67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[root@penguinvm log]# ps -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UID        PID  PPID  C STIME TTY          TIME CM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oot      6718  6692  0 14:49 ttyp0    00:00:00 sleep 10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95760" y="1981080"/>
              <a:ext cx="24958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uses process to be run in “background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175360" y="2278080"/>
              <a:ext cx="32040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6640" y="4800600"/>
              <a:ext cx="11970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b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2600" y="3424320"/>
              <a:ext cx="425520" cy="1571400"/>
            </a:xfrm>
            <a:custGeom>
              <a:avLst/>
              <a:gdLst/>
              <a:ahLst/>
              <a:rect l="l" t="t" r="r" b="b"/>
              <a:pathLst>
                <a:path w="268" h="990">
                  <a:moveTo>
                    <a:pt x="171" y="990"/>
                  </a:moveTo>
                  <a:lnTo>
                    <a:pt x="0" y="989"/>
                  </a:lnTo>
                  <a:lnTo>
                    <a:pt x="0" y="0"/>
                  </a:lnTo>
                  <a:lnTo>
                    <a:pt x="268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09880" y="4813200"/>
              <a:ext cx="15951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cess ID (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28800" y="3436920"/>
              <a:ext cx="979560" cy="1378080"/>
            </a:xfrm>
            <a:custGeom>
              <a:avLst/>
              <a:gdLst/>
              <a:ahLst/>
              <a:rect l="l" t="t" r="r" b="b"/>
              <a:pathLst>
                <a:path w="617" h="868">
                  <a:moveTo>
                    <a:pt x="617" y="868"/>
                  </a:moveTo>
                  <a:lnTo>
                    <a:pt x="616" y="0"/>
                  </a:ln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40200" y="4868280"/>
              <a:ext cx="16329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ent Process 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14680" y="4273560"/>
              <a:ext cx="1235160" cy="552600"/>
            </a:xfrm>
            <a:custGeom>
              <a:avLst/>
              <a:gdLst/>
              <a:ahLst/>
              <a:rect l="l" t="t" r="r" b="b"/>
              <a:pathLst>
                <a:path w="794" h="324">
                  <a:moveTo>
                    <a:pt x="794" y="324"/>
                  </a:moveTo>
                  <a:lnTo>
                    <a:pt x="794" y="227"/>
                  </a:lnTo>
                  <a:lnTo>
                    <a:pt x="89" y="227"/>
                  </a:lnTo>
                  <a:lnTo>
                    <a:pt x="89" y="0"/>
                  </a:ln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638080" y="4273560"/>
              <a:ext cx="16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- UID &amp; G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UI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process creation, the real UID identifies the user who has created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G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process creation, the real GID identifies the current connect group of the user for which the process was cre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- UID &amp; G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U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ffective UID is used to determine owner access privileges of a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ly the same as the real UID. It is possible for a program to have a special flag set that, when this program is executed, changes the effective UID of the process to the UID of the owner of the progra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gram with this special flag set is said to be a set-user-ID program (SUID). This feature provides additional permissions to us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SUID program is being execu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- UID &amp; G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1706400"/>
            <a:ext cx="81788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G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rocess also has an effective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ffective GID is used to determine group access privileges of a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ly the same as the real GID. A program can have a special flag set that, when this program is executed, changes the effective GID of the process to the GID of the owner of this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gram with this special flag set is said to be a set-group-ID program (SGID). Like the SUID feature, this provides additional permission to users while the set-group-ID program is being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- Process Grou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rocess belongs to a proces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cess group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collection of one or mo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rocess group has a unique process group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to send a signal to every process in the group just by sending the signal to the process group l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ime the shell creates a process to run an application, the process is placed into a new proces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application spawns new processes, these are members of the same process group as the 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0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- P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782360"/>
            <a:ext cx="81788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cess ID is a unique identifier assigned to a process while it ru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you run a process, it has a different PID (it takes a long time for a PID to be reused by the syste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use the PID to track the status of a process with the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mand or the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2"/>
              </a:rPr>
              <a:t>job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mand, or to end a process with the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3"/>
              </a:rPr>
              <a:t>ki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is it significan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wing pop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s on multiple hardware plat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like its speed and s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quirement for latest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“fre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d under GP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dors are distributors who package Linu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- PG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G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rocess in a process group shares a process group ID (PGID), which is the same as the PID of the first process in the process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D is used for signaling-related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command starts just one process, its PID and PGID are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- PP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cess that creates a new process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arent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the new process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ild pro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ent process (PPID) becomes associated with the new child process when it is cre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PID is not used for job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urity Guidel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Care With Passwo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good ones (motherhood statemen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Use Real Wor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Sure They Are Not Easily Guess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Combinations Of Upper and Lower Case, Numbers, Punctu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Method: Take first letter of a sentence or book title, insert numbers and punctua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urity Guidel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care of passwords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hadow Passwor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encrypted passwords to be in a file that is not world read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ssword Ag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shadow passwor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urity Guidel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trict Superuser Acce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 where root can log in fr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etc/securet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tricts root access to devices list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heel group to restrict who can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roo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users who c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oot in wheel group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etc/grou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urity Guidel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723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groups to allow access to files that must be shar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users will set world permiss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careful with SUID and SG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setting executables to SUID roo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ap SUID root wrapper around programs if they must be run SUID roo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special accounts for programs that must run with higher per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urity - Important Fi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"/>
          <p:cNvSpPr/>
          <p:nvPr/>
        </p:nvSpPr>
        <p:spPr>
          <a:xfrm>
            <a:off x="200160" y="2413080"/>
            <a:ext cx="8780400" cy="35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passwd - password f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shpasswd - shadow password f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group -lists groups and users contained in grou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services - lists network services and their po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ftpusers - contains list of accounts that cannot use ft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hosts.equiv - generic list of remote us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~/.rhosts - list of remote users for a specific accou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hosts - host definition 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hosts.lpd - hosts who can use remote prin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hosts.allow - lists services that remote users are allowed to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hosts.deny - lists services tthat remote users are not allowed to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nologin - no login message that also disables logi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securetty - lists legal terminals for root to login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exports - lists locations that can be remotely accessed via NF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syslog.conf - configures the syslog fac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etc/inetd.conf - configures inet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/390 Specif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33280" y="1885680"/>
            <a:ext cx="86997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ASCII imple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s a layer of abstraction to I/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nel based v IRQ ba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pport for ECKD using SS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pport for VM minidisks (ECKD, CKD, FBA, VDISK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/390 Specif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725120"/>
            <a:ext cx="81788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s natively, in LPAR, or under VM/E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relative instructions: G2, P/390, R/390 or be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use hardware IEEE FP or will emu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drivers for CTCA/ESCON, OSA-2, and IUCV (VM on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15 emulation for virtual cons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console driver (HM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/390 Specif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NU tools 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/C++ compiler (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gcc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-2.95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er and linker (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binutils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-2.9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ages “ported”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Regin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UF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X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9"/>
              </a:rPr>
              <a:t>OpenLDA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0"/>
              </a:rPr>
              <a:t>IMA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1"/>
              </a:rPr>
              <a:t>Sendm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2"/>
              </a:rPr>
              <a:t>Bi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3"/>
              </a:rPr>
              <a:t>RP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4"/>
              </a:rPr>
              <a:t>Samba 2.0.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5"/>
              </a:rPr>
              <a:t>Apa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6"/>
              </a:rPr>
              <a:t>Pe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/39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s39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78680" y="5187960"/>
            <a:ext cx="971640" cy="266760"/>
          </a:xfrm>
          <a:prstGeom prst="rect">
            <a:avLst/>
          </a:prstGeom>
          <a:ln w="0">
            <a:noFill/>
          </a:ln>
        </p:spPr>
      </p:pic>
      <p:pic>
        <p:nvPicPr>
          <p:cNvPr id="107" name="Penguinvm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71920" y="3340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 in the Business Wor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ssues and observ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’s place in the mark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usiness world is interested 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cy and effectiv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ed econo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-based busin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’s place in the mark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orld is heterogene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0% of Fortune 1000 companies use 3 or more Opera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mands of e-bus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s with exist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any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built/deployed independent of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x 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’s place in the mark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ce of the applicatio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-centric and based on standards that span multiple plat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rage core business systems and scale to meet unpredictable dem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ick to deploy, easy to use and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’s place in the mark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Vs which have made Linux announc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; Novell; SAP; Informix; Oracle, IBM; HP; CA; ApplixWare; Star; Corel; Cygnus; MetroWerks; ObjectShare; Inpr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a spotligh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N; PCWorld; PCWeek; InternetWe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’s place in the mark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40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commercial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dant Corporation - 4000 hot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rlington Coat Factory - back offi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thwest Airlines - 23 flight simul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l announcement January 5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web appliances to run Linu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the insistence of customers (e.g. N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’s place in the mark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servers (65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Infrastructure (mail, DNS) (15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/Print (15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 &amp; DB Applications (2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ux/Apache share of Web serving hig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nomous depart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SMB and small IS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Os discovering they have Linux running somewhe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ong mindshare among develop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’s place in the mark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ux’s app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races new generation of web-based ap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yer in the heterogeneous e-business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flexibility and choice of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ource focuses on open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ux’s place in the mark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 for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s/Technologies/Offer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V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ment to main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e of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BM’s focus on Linu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476280" y="1846440"/>
          <a:ext cx="8156520" cy="50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846440"/>
                    <a:ext cx="815652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7:56:57Z</dcterms:created>
  <dc:creator>Sterling Software, Inc.</dc:creator>
  <dc:description/>
  <dc:language>en-US</dc:language>
  <cp:lastModifiedBy>Sterling Software, Inc.</cp:lastModifiedBy>
  <cp:lastPrinted>2000-01-06T20:37:21Z</cp:lastPrinted>
  <dcterms:modified xsi:type="dcterms:W3CDTF">2000-02-04T02:47:31Z</dcterms:modified>
  <cp:revision>98</cp:revision>
  <dc:subject/>
  <dc:title>An Introduction to Linux</dc:title>
</cp:coreProperties>
</file>