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C0EC-7A2B-4794-B8E4-EB45231CB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s” stands for l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wd stands for present working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” means switch user. When you have several user account on one mach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s” stands for l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I’m gonna go through Unix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commands related with process management. Kill is used to stop your pr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commands related with process management. Kill is used to stop your pr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stands for “tape archive”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zip” stands for zip is compression algorithm. G stands for that this software is made by GNU project. I don’t explain What GNU is here, but you might have heard about “open source project”. GNU is an open source project to create totally free UN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our objective is to run parallel program on PC clu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o” stands for Pine Composer. Pine is a mail software. Pico comes out from pine edit mail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+ is not + k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ide /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           cut            gawk      ls             red        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            date           gettext   mail           rm         tc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.static     dd             grep      mkdir          rmdir      tou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mix-minimal  df             gtar      mknod          rpm       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k            dmesg          gunzip    mktemp         rvi        u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name       dnsdomainname  gzip      more           rview      u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h           doexec         hostname  mount          sed        unicode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h2          domainname     igawk     mt             setfont    unicode_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h            dumpkeys       ipcalc    mv             setserial  un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            echo           kbd_mode  netstat        sfxload    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grp          ed             kill      nice           sh         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mod          egrep          ksh       nisdomainname  sleep     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wn          env            link      pgawk          sort       ypdomain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p             ex             ln        ping           stty       zc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pio           false          loadkeys  ps             su         z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h            fgrep          login     pwd            sync       zsh-4.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ide /s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kfs, insmod, halt shutdown ifconfig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B4C-0A21-48A2-8538-53C9A45F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92A-B2DD-4299-B647-45AF687B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CA1-7553-4F1F-922D-9EC71A6D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AEF-6E38-43CD-A561-1F793C44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071D-176B-422A-ADD8-9BDD8BEE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7049-7100-475E-980B-987D7E54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687D-348D-4F3D-884C-3ACDF3AB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2936-2692-409D-B922-ADE22BEA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6DD5-3466-4EDA-9AD6-73F3AA01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A6ED-8EE1-4348-9661-795E1AB4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BE3D-4942-42D8-B5AF-AB706FA6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C65-D95D-4D52-B6AB-CF6CC7E7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5C1A-E14F-437A-9690-EA054E36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E10B-865A-42CD-9D68-43A1631B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88C0-4C1D-40DB-B79F-5E38F02B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D1EB-48B5-415E-9264-F7D0DC95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E992-00DC-47CE-B23B-5AF1E08C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482-E871-402E-8EAE-9E6F17B3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B88-163B-4698-88EE-0AFFA8F5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F30-DB7E-4AE0-A04F-2A7F214D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E06-8F96-42D2-9B81-02599399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F61-1944-40BA-AAEB-6217F7CD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6E0-172E-473B-9023-DFC62D15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189-2EF5-4845-94F5-38FD65A7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D449-2443-4136-8EA7-E8E705115ABB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3098-8F3A-4574-9473-3E8FA422E4DF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380960"/>
            <a:ext cx="6629400" cy="17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Tutorial of Unix/Linux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438280" y="4419360"/>
            <a:ext cx="5486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édric Notred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(Adapted from NOMUR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Basic Comman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05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ow to run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Finder =&gt; Application =&gt; Utilitaires =&gt; Term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you log on Unix machine, you will se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someone]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command consists of three parts, i.e. command name, options, argu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someone~]$ command-name  optionA optionB  argument1  argumen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Basic Comman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05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ow to run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command name, options and argument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necessa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itions always start with “-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 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  –l  .bash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  fileA  fil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Basic Comman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05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 files in current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 file or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e file or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 file or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w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 current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kd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md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, more, c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lay fil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lay online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Basic Comman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05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w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new user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ete user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unt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mount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 disk space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ut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boot or turn off mach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Basic Comman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27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Type following command in your direc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ls –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ls –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   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ls -F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a dire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mkdir lin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d lin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rmdir lin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1905120"/>
            <a:ext cx="4572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In your home directory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ls  .bash_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p  .bash_profile  sample.t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less  sample.txt  (note: to quit </a:t>
            </a:r>
            <a:r>
              <a:rPr b="0" lang="en-US" sz="1200" spc="-1" strike="noStrike" u="sng">
                <a:solidFill>
                  <a:srgbClr val="3333ff"/>
                </a:solidFill>
                <a:uFillTx/>
                <a:latin typeface="Arial"/>
                <a:ea typeface="ＭＳ Ｐゴシック"/>
              </a:rPr>
              <a:t>less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, press “q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rm  sample.t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check disk space u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df -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Relative &amp; Absolute Pat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47480" y="1831680"/>
            <a:ext cx="61866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an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o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the directory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express a path, you can u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lative 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bsolute 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relative path expression, the path is not defined uniquely, depends on your current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absolute path expression, the path is defined uniquely, does not depend on your current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Absolute Pat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 from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home/linu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/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: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~: Alt+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sanne University/Lausanne/Canton de Vaud/ Switzerland/Europe/Earth/Solar Syste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22720" y="1668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Relative Pat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ve to your current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: your current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. : one directory above your current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wd: gives you your current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 ./linux : lists the content of the dir linu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 ../../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lists everything that is two dir hige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 Left/turn right/take the TSOL/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22720" y="1668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Relative &amp; Absolute Pat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82800" y="1687680"/>
            <a:ext cx="317016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v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d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d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22720" y="1668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1676520"/>
            <a:ext cx="35053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lsout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mkdir myd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d /Users/inv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d /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d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d /Users/inv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d ~/myd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direct, Append and Pip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direct and ap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of command is displayed on scre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“&gt;”, you ca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dir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output from screen to a fi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“&gt;&gt;” you ca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p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output to the bottom of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ommands require input from a file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ther 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“|”, you can use output from other command as input to the comm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cOSX, The Pipe sign: (</a:t>
            </a: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Shift+Alt+N: franc, Alt+7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Outli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view of Unix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c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ve &amp; Absolute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rect, Append and 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eground and Background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direct, Append and Pip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05312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veral lines and omit other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veral lines and o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p XXX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how lines matching pattern XXX in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direct, Append and Pip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280" y="1743120"/>
            <a:ext cx="35384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home directory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ls -1 &gt; sampl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less sampl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redir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head -3 sampl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head -3 sample.txt &gt; redirect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ppen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tail -3 sampl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tail -3 sample.txt &gt;&gt; redirect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less redirect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1828800"/>
            <a:ext cx="3429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pi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ff"/>
                </a:solidFill>
                <a:latin typeface="Arial"/>
              </a:rPr>
              <a:t>less redirect.t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ff"/>
                </a:solidFill>
                <a:latin typeface="Arial"/>
              </a:rPr>
              <a:t>grep Desk redirect.t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ff"/>
                </a:solidFill>
                <a:latin typeface="Arial"/>
              </a:rPr>
              <a:t>grep –n Desk redirect.t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ff"/>
                </a:solidFill>
                <a:latin typeface="Arial"/>
              </a:rPr>
              <a:t>man gre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ff"/>
                </a:solidFill>
                <a:latin typeface="Arial"/>
              </a:rPr>
              <a:t>tail redirect.txt | grep De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ff"/>
                </a:solidFill>
                <a:latin typeface="Arial"/>
              </a:rPr>
              <a:t>rm sample.t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ff"/>
                </a:solidFill>
                <a:latin typeface="Arial"/>
              </a:rPr>
              <a:t>rm redirect.t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r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05312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rts using the first field of each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rts considering the numeric value of the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k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rts using the third field of each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rnk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rts in reverse order, using the numeric valu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hird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direct, Append and Pip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743120"/>
            <a:ext cx="76168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the largest file in a director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ls –la /bin/ | sort –nk5 | tail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1828800"/>
            <a:ext cx="3429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Permission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of files and directories have owner and perm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are three types of permission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ad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ritea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execu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ssions are given to three kinds of group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ow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group me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oth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ls -l .bash_pro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rw-r--r--    1 cnotred    cnotred         191 Jan  4 13:11 .bash_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:readable,  w:writable,  x: 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Permission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77640" y="1742760"/>
            <a:ext cx="71262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 file mode, add or remo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 owner of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mod a+w 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writable permission to all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mod o-x  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 executable permission from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mod a+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ives permission to the usser to execu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: user (owner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: group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: oth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: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Permission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30400" y="1599840"/>
            <a:ext cx="619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ls –l .bash_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p .bash_profile sampl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ls –l sampl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 readable permission from all.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hmod a-r sampl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ls –l sampl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less sampl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readable &amp; writable premissions to file ow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hmod u+rw sampl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ls –l sampl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less sampl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rm sampl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Process Manage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26912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a unit of running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process has some information, like process ID, owner, priority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66680" y="4572000"/>
            <a:ext cx="6934320" cy="1719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67280" y="3962520"/>
            <a:ext cx="44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Example) Output of “top”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Process Manage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0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ommand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i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 a program. The program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ied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rocess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ill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 a program. The program 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ied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ommand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 process stat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 system usage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Process Manage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0193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your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s  –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process of all us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top (To quit top, press “q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s  –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s  –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 your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s  –ef   |   grep   cnot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Overview of Unix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4876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Kernel &amp; Sh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x/Linux is operating system (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x system is described as kernel &amp; sh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rnel is a main program of Unix system. it controls hard wares, CPU, memory, hard disk, network card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ell is an interface between user and kernel.  Shell interprets your input as commands and pass them to kern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3962520"/>
            <a:ext cx="1828800" cy="18288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4343400"/>
            <a:ext cx="106704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8240" y="4038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26760" y="2971800"/>
            <a:ext cx="66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4160" y="3429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33526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Install Soft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464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  <a:ea typeface="ＭＳ Ｐゴシック"/>
              </a:rPr>
              <a:t>Unix system has a “</a:t>
            </a:r>
            <a:r>
              <a:rPr b="0" i="1" lang="en-US" sz="1800" spc="-1" strike="noStrike">
                <a:solidFill>
                  <a:srgbClr val="000000"/>
                </a:solidFill>
                <a:latin typeface="ArialMT"/>
                <a:ea typeface="ＭＳ Ｐゴシック"/>
              </a:rPr>
              <a:t>de facto</a:t>
            </a:r>
            <a:r>
              <a:rPr b="0" lang="en-US" sz="1800" spc="-1" strike="noStrike">
                <a:solidFill>
                  <a:srgbClr val="000000"/>
                </a:solidFill>
                <a:latin typeface="ArialMT"/>
                <a:ea typeface="ＭＳ Ｐゴシック"/>
              </a:rPr>
              <a:t> standard” way to install a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  <a:ea typeface="ＭＳ Ｐゴシック"/>
              </a:rPr>
              <a:t>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MT"/>
                <a:ea typeface="ＭＳ Ｐゴシック"/>
              </a:rPr>
              <a:t>configure, make &amp; make 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  <a:ea typeface="ＭＳ Ｐゴシック"/>
              </a:rPr>
              <a:t>Typical software installation procedure as following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MT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Arial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  <a:ea typeface="ＭＳ Ｐゴシック"/>
              </a:rPr>
              <a:t>Download source code. Usually, it’s archived wit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MT"/>
                <a:ea typeface="ＭＳ Ｐゴシック"/>
              </a:rPr>
              <a:t>tar</a:t>
            </a:r>
            <a:r>
              <a:rPr b="0" lang="en-US" sz="1800" spc="-1" strike="noStrike">
                <a:solidFill>
                  <a:srgbClr val="000000"/>
                </a:solidFill>
                <a:latin typeface="ArialMT"/>
                <a:ea typeface="ＭＳ Ｐゴシック"/>
              </a:rPr>
              <a:t> command and compressed wit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MT"/>
                <a:ea typeface="ＭＳ Ｐゴシック"/>
              </a:rPr>
              <a:t>gzip</a:t>
            </a:r>
            <a:r>
              <a:rPr b="0" lang="en-US" sz="1800" spc="-1" strike="noStrike">
                <a:solidFill>
                  <a:srgbClr val="000000"/>
                </a:solidFill>
                <a:latin typeface="ArialMT"/>
                <a:ea typeface="ＭＳ Ｐゴシック"/>
              </a:rPr>
              <a:t> comm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Arial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MT"/>
                <a:ea typeface="ＭＳ Ｐゴシック"/>
              </a:rPr>
              <a:t>configure</a:t>
            </a:r>
            <a:r>
              <a:rPr b="0" lang="en-US" sz="1800" spc="-1" strike="noStrike">
                <a:solidFill>
                  <a:srgbClr val="000000"/>
                </a:solidFill>
                <a:latin typeface="ArialMT"/>
                <a:ea typeface="ＭＳ Ｐゴシック"/>
              </a:rPr>
              <a:t> command creat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MT"/>
                <a:ea typeface="ＭＳ Ｐゴシック"/>
              </a:rPr>
              <a:t>Makefile</a:t>
            </a:r>
            <a:r>
              <a:rPr b="0" lang="en-US" sz="1800" spc="-1" strike="noStrike">
                <a:solidFill>
                  <a:srgbClr val="000000"/>
                </a:solidFill>
                <a:latin typeface="ArialMT"/>
                <a:ea typeface="ＭＳ Ｐゴシック"/>
              </a:rPr>
              <a:t> automatically which is used to compile the sour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Arial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  <a:ea typeface="ＭＳ Ｐゴシック"/>
              </a:rPr>
              <a:t>Program compilation is written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MT"/>
                <a:ea typeface="ＭＳ Ｐゴシック"/>
              </a:rPr>
              <a:t>Makefile</a:t>
            </a:r>
            <a:r>
              <a:rPr b="0" lang="en-US" sz="1800" spc="-1" strike="noStrike">
                <a:solidFill>
                  <a:srgbClr val="000000"/>
                </a:solidFill>
                <a:latin typeface="ArialMT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Install Soft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98080" y="1599840"/>
            <a:ext cx="741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Helvetica-Bold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elvetica-Bold"/>
                <a:ea typeface="ＭＳ Ｐゴシック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gzip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compress a file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gunzip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uncompress 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tar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archive or expand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configure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create Make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make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compile &amp; install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Install Soft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98080" y="1600200"/>
            <a:ext cx="7419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parallel programming library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nzip software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 –xvf  software.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/install OR make all OR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2286000"/>
            <a:ext cx="58672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Text Edit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0560" y="1677600"/>
            <a:ext cx="741024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Helvetica-Bold"/>
                <a:ea typeface="ＭＳ Ｐゴシック"/>
              </a:rPr>
              <a:t>p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Programs &amp; configuration file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Helvetica-Bold"/>
                <a:ea typeface="ＭＳ Ｐゴシック"/>
              </a:rPr>
              <a:t>text file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There are two popular text editor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Helvetica-Bold"/>
                <a:ea typeface="ＭＳ Ｐゴシック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Helvetica-Bold"/>
                <a:ea typeface="ＭＳ Ｐゴシック"/>
              </a:rPr>
              <a:t>Emacs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Although they are very powerful and useful, it is also true that they are complicated for beginners and difficult to learn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Helvetica-Bold"/>
                <a:ea typeface="ＭＳ Ｐゴシック"/>
              </a:rPr>
              <a:t>pico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  <a:ea typeface="ＭＳ Ｐゴシック"/>
              </a:rPr>
              <a:t> is an easy and simple altern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Text Edit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Helvetica-Bold"/>
                <a:ea typeface="ＭＳ Ｐゴシック"/>
              </a:rPr>
              <a:t>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rrow-key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ove cur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+a Move to the beginning of the current l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+e Move to the end of the current l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+v Move forward one p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+y Move backward one p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+w Search for tex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TRL+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elete the current character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+k Remove (cut) current line or selected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+u Paste (uncut) last cut text at the cursor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TRL+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ave (output) the fil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TRL+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Exit Pico, saving the fi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re: xemacs, em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Text Edit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the file 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ico  hello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 hello.pl as foll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!/usr/bin/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 “Hello World\n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il 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hmod u+x hello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./hello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3276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Foreground and Backgroun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98080" y="1825200"/>
            <a:ext cx="73422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ning job has two modes, “foreground” and “backgrou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program is running as “background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rogram keeps running even after your session was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program is running as “foreground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-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-Z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t program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Foreground and Backgroun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98080" y="1825200"/>
            <a:ext cx="73422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run programs in background mode, use “&amp;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nomura@ssc-1]$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get background job back into foreground mode, use “fg”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nomura@ssc-1]$ 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Remote Login &amp; File Transf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1760" y="4419720"/>
            <a:ext cx="4570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h &amp; r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lnet &amp; 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sh &amp; s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8480" y="4441680"/>
            <a:ext cx="411480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lnetd &amp; f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s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0960" y="40464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1789200"/>
            <a:ext cx="66294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hd, telnetd, ftpd, sshd are server program and provide similar services, remote login &amp; file trans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jor difference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ecurit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hd &lt; telnetd + ftpd &lt; ss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Remote Login &amp; File Transf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905120"/>
            <a:ext cx="75438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mote lo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le trans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ystem are bas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erver and cl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odel. client program on your machine ask sever program certain service remote mach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, telnet server provides remote login service. ftp server provides file transfer serv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ple client program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 FT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P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et Explor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do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, SMTP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Unix Overview (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053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ulti-user &amp; Multi-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y people can use one machine at the sam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le &amp;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, directory, process, hard disk etc (almost everything) are expressed as a f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is an running program identified by a unique id (PI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57040" y="1380960"/>
            <a:ext cx="6629400" cy="17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Tutorial of Unix/Linux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416320" y="4032000"/>
            <a:ext cx="130176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Unix Overview (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42760"/>
            <a:ext cx="71247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irecto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 are put i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irec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directories are in a hierarchical structure (tree structu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can put and remove any directories on the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 directory is “/”, which is call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la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 have the own directory. (home direc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Unix Overview (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42760"/>
            <a:ext cx="71247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irecto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82800" y="2303640"/>
            <a:ext cx="6410160" cy="26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Unix Overview (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668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mportant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bin     This contains files that are essential for correct operation of the system. These are available for use by all us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home This is where user home directories are sto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v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is directory is used to store files which change frequently, and must be available to be written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et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Various system configuration files are stored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Unix Overview (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17680" y="1600200"/>
            <a:ext cx="6554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mportant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de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is contains various devices as files, e.g. ha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k, CD-ROM drive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s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Binaries which are only expected to be used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uper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tmp     Temporary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Unix Overview (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ormal user and Super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Unix system, there is one special user for administrator, which can do any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special user is call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o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uper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ase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x is case-sensi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FILE.doc, Myfile.doc, mYfiLe.Doc are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Online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x has well-written online manu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4:59:55Z</dcterms:created>
  <dc:creator>Ken-ichi NOMURA</dc:creator>
  <dc:description/>
  <dc:language>en-US</dc:language>
  <cp:lastModifiedBy>Notredame</cp:lastModifiedBy>
  <dcterms:modified xsi:type="dcterms:W3CDTF">2006-03-20T16:54:46Z</dcterms:modified>
  <cp:revision>639</cp:revision>
  <dc:subject/>
  <dc:title>Basic Commnads</dc:title>
</cp:coreProperties>
</file>