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326480"/>
            <a:ext cx="77677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32648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960" y="432648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32648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1640" y="432648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8200" y="4326480"/>
            <a:ext cx="25009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92120"/>
            <a:ext cx="6777000" cy="63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32648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960" y="432648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326480"/>
            <a:ext cx="776772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846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67770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400" y="1676520"/>
            <a:ext cx="7772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Introduction to Linux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2320" y="3012840"/>
            <a:ext cx="780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i Z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CLA Linux User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linux.ucla.edu/~leiz/linuxintro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Types of file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thing is a fi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inary files - text, data o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ories - contain other files/dire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ks - pointers to other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al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ices - represent hardware (e.g. /dev/fd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s - pipes, so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The Linux User Interface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and line interface (C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and line type commands at a pro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more flexible /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aphical user interface (GU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 and click window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ar / easy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The GUI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2216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 Window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rlying graphic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ktop Environments (the actual GU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KDE, GN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ful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nsole – runs a shell (the C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Office – wordprocessor/spread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zilla – Web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im – AIM / MSN / Yahoo IM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The Shell (CLI)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and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s programs on the user's be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eties csh, tcsh, bash, zsh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h is the most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ompt e.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r@computer:/current_dir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Command Line Cycle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play Pro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 types command and 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 executes the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666880"/>
            <a:ext cx="1440" cy="685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809880"/>
            <a:ext cx="1440" cy="685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362320"/>
            <a:ext cx="2286000" cy="2361960"/>
          </a:xfrm>
          <a:custGeom>
            <a:avLst/>
            <a:gdLst/>
            <a:ahLst/>
            <a:rect l="l" t="t" r="r" b="b"/>
            <a:pathLst>
              <a:path w="6351" h="6562">
                <a:moveTo>
                  <a:pt x="3598" y="6561"/>
                </a:moveTo>
                <a:lnTo>
                  <a:pt x="0" y="6561"/>
                </a:lnTo>
                <a:lnTo>
                  <a:pt x="0" y="0"/>
                </a:lnTo>
                <a:lnTo>
                  <a:pt x="635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Getting Help (The Manual)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 s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3 prin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95280" y="3352680"/>
            <a:ext cx="6934320" cy="1870200"/>
            <a:chOff x="1295280" y="3352680"/>
            <a:chExt cx="6934320" cy="1870200"/>
          </a:xfrm>
        </p:grpSpPr>
        <p:sp>
          <p:nvSpPr>
            <p:cNvPr id="74" name=""/>
            <p:cNvSpPr/>
            <p:nvPr/>
          </p:nvSpPr>
          <p:spPr>
            <a:xfrm>
              <a:off x="4762440" y="4854600"/>
              <a:ext cx="346716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295280" y="4854600"/>
              <a:ext cx="3465720" cy="368280"/>
              <a:chOff x="1295280" y="4854600"/>
              <a:chExt cx="34657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1295280" y="4854600"/>
                <a:ext cx="3465720" cy="3636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95280" y="485460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. Ne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762440" y="4491000"/>
              <a:ext cx="3465720" cy="368280"/>
              <a:chOff x="4762440" y="4491000"/>
              <a:chExt cx="3465720" cy="368280"/>
            </a:xfrm>
          </p:grpSpPr>
          <p:sp>
            <p:nvSpPr>
              <p:cNvPr id="79" name=""/>
              <p:cNvSpPr/>
              <p:nvPr/>
            </p:nvSpPr>
            <p:spPr>
              <a:xfrm>
                <a:off x="4762440" y="4491000"/>
                <a:ext cx="3465720" cy="3636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62440" y="449100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. System Manag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295280" y="4491000"/>
              <a:ext cx="3465720" cy="368280"/>
              <a:chOff x="1295280" y="4491000"/>
              <a:chExt cx="3465720" cy="368280"/>
            </a:xfrm>
          </p:grpSpPr>
          <p:sp>
            <p:nvSpPr>
              <p:cNvPr id="82" name=""/>
              <p:cNvSpPr/>
              <p:nvPr/>
            </p:nvSpPr>
            <p:spPr>
              <a:xfrm>
                <a:off x="1295280" y="4491000"/>
                <a:ext cx="3465720" cy="3636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95280" y="449100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7. Miscellaneo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762440" y="4083120"/>
              <a:ext cx="3465720" cy="406440"/>
              <a:chOff x="4762440" y="4083120"/>
              <a:chExt cx="3465720" cy="406440"/>
            </a:xfrm>
          </p:grpSpPr>
          <p:sp>
            <p:nvSpPr>
              <p:cNvPr id="85" name=""/>
              <p:cNvSpPr/>
              <p:nvPr/>
            </p:nvSpPr>
            <p:spPr>
              <a:xfrm>
                <a:off x="4762440" y="4083120"/>
                <a:ext cx="3465720" cy="406440"/>
              </a:xfrm>
              <a:prstGeom prst="roundRect">
                <a:avLst>
                  <a:gd name="adj" fmla="val 38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62440" y="408312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6. Ga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295280" y="4083120"/>
              <a:ext cx="3465720" cy="406440"/>
              <a:chOff x="1295280" y="4083120"/>
              <a:chExt cx="3465720" cy="406440"/>
            </a:xfrm>
          </p:grpSpPr>
          <p:sp>
            <p:nvSpPr>
              <p:cNvPr id="88" name=""/>
              <p:cNvSpPr/>
              <p:nvPr/>
            </p:nvSpPr>
            <p:spPr>
              <a:xfrm>
                <a:off x="1295280" y="4083120"/>
                <a:ext cx="3465720" cy="406440"/>
              </a:xfrm>
              <a:prstGeom prst="roundRect">
                <a:avLst>
                  <a:gd name="adj" fmla="val 38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95280" y="408312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5. File Format + conver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762440" y="3718080"/>
              <a:ext cx="3465720" cy="368280"/>
              <a:chOff x="4762440" y="3718080"/>
              <a:chExt cx="3465720" cy="368280"/>
            </a:xfrm>
          </p:grpSpPr>
          <p:sp>
            <p:nvSpPr>
              <p:cNvPr id="91" name=""/>
              <p:cNvSpPr/>
              <p:nvPr/>
            </p:nvSpPr>
            <p:spPr>
              <a:xfrm>
                <a:off x="4762440" y="3718080"/>
                <a:ext cx="3465720" cy="36324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62440" y="371808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. Dev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295280" y="3718080"/>
              <a:ext cx="3465720" cy="368280"/>
              <a:chOff x="1295280" y="3718080"/>
              <a:chExt cx="3465720" cy="368280"/>
            </a:xfrm>
          </p:grpSpPr>
          <p:sp>
            <p:nvSpPr>
              <p:cNvPr id="94" name=""/>
              <p:cNvSpPr/>
              <p:nvPr/>
            </p:nvSpPr>
            <p:spPr>
              <a:xfrm>
                <a:off x="1295280" y="3718080"/>
                <a:ext cx="3465720" cy="36324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295280" y="371808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 Library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762440" y="3352680"/>
              <a:ext cx="3465720" cy="368280"/>
              <a:chOff x="4762440" y="3352680"/>
              <a:chExt cx="3465720" cy="368280"/>
            </a:xfrm>
          </p:grpSpPr>
          <p:sp>
            <p:nvSpPr>
              <p:cNvPr id="97" name=""/>
              <p:cNvSpPr/>
              <p:nvPr/>
            </p:nvSpPr>
            <p:spPr>
              <a:xfrm>
                <a:off x="4762440" y="3352680"/>
                <a:ext cx="3465720" cy="3636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62440" y="335268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 System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1295280" y="3352680"/>
              <a:ext cx="3465720" cy="368280"/>
              <a:chOff x="1295280" y="3352680"/>
              <a:chExt cx="3465720" cy="36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95280" y="3352680"/>
                <a:ext cx="3465720" cy="3636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95280" y="3352680"/>
                <a:ext cx="346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 User Comman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295280" y="3352680"/>
              <a:ext cx="6932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5280" y="3718080"/>
              <a:ext cx="693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5280" y="4083120"/>
              <a:ext cx="693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4491000"/>
              <a:ext cx="693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95280" y="4854600"/>
              <a:ext cx="693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95280" y="5219640"/>
              <a:ext cx="6932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5280" y="3352680"/>
              <a:ext cx="1800" cy="186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62440" y="3352680"/>
              <a:ext cx="180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28160" y="3352680"/>
              <a:ext cx="1440" cy="186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ls output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ner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ze of file/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e of las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of file/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Permission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-user OS needs access mechanism for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file/dir has permissions for its owner, its owners group and everyone else on the system (u,g,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ermissions are for the ability to read, write and execute a file/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RWX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tput of ls -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permission is on a letter appears if it is off there will be a minus sign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one is - for a file or d for 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xt 3 are the users p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xt 3 are the groups p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st 3 are everyone else's per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Examples of permission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r-xr-xr-x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rwxr-xr--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rwxrwxrwx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What is Linux?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X-like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ed by Finnish computer science student Linus Torvalds as an OS project in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de available on the net and has been developed ever s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Changing permission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mod command - has 2 mo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(convert bits to decimal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ly set the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 = 4, write = 2, execute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750 is equivalent to rwxr-x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/remove perms: {a,u,g,o} {+,-} {r,w,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mod  permission &lt;filena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chmod a+x f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chmod 644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Navigation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solute - full pathnames (‘/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ve - pathnames relative to were you are in the fs (. .. ~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ortcu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’ is current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’ is the parent of current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~’ is your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67816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Wildcards and Filename completion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wildcard character is * and matches zero or more charac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*.txt = all files that end in 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* = all files that start with the lett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*.c = all files that start with d and have .c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lename completion - type first few characters of a file/command and press tab, the shell will fill in the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Basic command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d – change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‘cd /usr/bi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p – copy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‘cp ~/cs111/source.c /mnt/flopp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v – mov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‘mv /tmp/mystuff/* ../somewher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m – remov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‘rm ee115c/hwk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kdir, rmdir – make and remove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Standard input/output</a:t>
            </a: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special file handles for input/output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nput (stdin) – file handl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output (stdout) - file hand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error (stderr) - file hand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default for pro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dout and stderr are the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din is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Pipe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ipe character is: “ |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output of the command on the left of the pipe becomes the input to the command on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s | wc -l output of ls as input t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create complex commands to perform difficult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s command lists processes o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‘ps auwx’ shows all processes running on the system at th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esses can be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the ‘kill’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must be owner of process, or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‘kill 500’ will kill process #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also be used to send processes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Compiling Program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cc – GNU C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compiler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 –o hello hello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il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 –c hello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 –c functions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k fil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 –o newhello hello.o functions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/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Network Util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ng - tells if a machine is on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‘ping www.ucla.edu’ will keep sending packets until CTRL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eroute - shows all points between machine and machine you are look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‘traceroute www.yahoo.com’ shows all the hops to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tstat - show network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1676520"/>
            <a:ext cx="7772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  <a:ea typeface="Arial"/>
              </a:rPr>
              <a:t>The End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52320" y="3012840"/>
            <a:ext cx="780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or N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Why Use Linux?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-Tasking / Multi-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bility /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es with a complete development enviroment (C, C++, Fortran, Java, Perl, Python, etc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Why Use Linux?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's Fre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ee as in 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ee as in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's Ope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can see the sourc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can modify the sourc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Users in Linux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668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User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name, group(s), password, home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t User vs Regula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240" indent="-27540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ot == Administrator ==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sparingly, only when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ember, it's your bed, don't Sh**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240" indent="-27540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ula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Home Dir and Path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me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of us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t point when logg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to search for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n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/usr/bin:/bin:/usr/X11R6/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The filesystem (fs)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ux supports many file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ve fs (ext2, ext3, reiserf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X permissions, links, specia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crosoft fs (fat, nt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/write support for fat, readonly for nt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 fs (nfs, smb, af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for accessing files on oth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Structure of fs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s is conceptualised as 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 is the root directory and everything is a subdirectory of it branching down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drives are attached to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“C”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ach other filesystem using the mount and umount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mount is the unmount command, not a ty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only root can (un)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9c0000"/>
                </a:solidFill>
                <a:latin typeface="Times New Roman"/>
              </a:rPr>
              <a:t>Tree Structure</a:t>
            </a:r>
            <a:endParaRPr b="0" lang="en-US" sz="4400" spc="-1" strike="noStrike">
              <a:solidFill>
                <a:srgbClr val="9c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7840" y="1514520"/>
            <a:ext cx="248760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b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bo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d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etc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h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li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m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o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proc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ro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sb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tmp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us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usr/b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usr/li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usr/sb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v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320" y="1550880"/>
            <a:ext cx="799632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roo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essential us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kernels and boot 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devic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home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essential libraries and kernel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mount point for other file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addon (optional)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system inter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the root user's home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essential system b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temporary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user programs (not as essen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|– similar hierachy to root 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      –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gothic"/>
              </a:rPr>
              <a:t>various other files (logs, mail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Introduction to Linux</dc:title>
</cp:coreProperties>
</file>