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18F-BFC9-4C92-A945-F109DFFE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BEA-C913-43FB-A957-5532A6F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E70-6244-4FB6-83D1-862D2F25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959-6807-498A-9623-D1ECFAAE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B06-1914-4D93-B92E-510391E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F94-7ADD-4B98-94B0-A8679881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4A1-F4AA-43C5-BEA0-2378A71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7C7-B750-4AED-9F47-3DB046AE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2D7-03D0-4D6F-A3C9-520202C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E6D-6061-47A3-B046-C07056B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7C4-28DB-4A09-BD0F-31DCA74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60F-BA2F-49FD-8090-EF1E9BD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614D-BD34-4CF2-800E-5CFDCE66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. To Unix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ose who’ve never used Unix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utorial to let you move around your Unix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ussion of inner workings of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perating Systems – CSCI-4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to Windows/DO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file on R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ptions.  Two most common: emacs and vi (“vee-eye”, not “vye” or “six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‘better’ is a cause of online holy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torials online to help you with eithe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can assist you if you’re using emacs (he’s on the anti-vi side of the holy w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ning emacs shortc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X CTRL-F – open new or existing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X S – prompt to sav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X CTRL-S – save file without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A – beginning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E – end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X CTRL-J – jump to line #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K – Cut to end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Y – Paste most recent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-X – many mini-buffer commands (replace, undo, search, etc (tab-complete for list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G – quit mini-buffer (if you typo when making a com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-X CTRL-C – Exit e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ind yourself unable to do something in this class because of a lack of familiarity with Unix, ask Paul.  He’ll be happy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achi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s.rpi.edu – takes you to a random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s-sun1.rpi.edu – takes you to a Sun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s-ibm1.rpi.edu – takes you to an IBM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thers, but these should be more than enough for this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800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’re on campus, you must use SSH (instead of Telnet)  to connect to these machines.  Download TeraTerm SSH or SecureC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’  - get directory 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 ‘di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 –l’ – get long file 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’ – chang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kdir’ – make direc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’ – remove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‘d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dir’ – remov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’ – contents of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‘typ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’ – copy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‘copy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v’ – move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: ‘mov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de (permissions) of file/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‘ls –l’, 10 fields of information are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rwxrw-r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osition: ‘d’ (directory) or ‘-’ (f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hree: user permi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 – read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’ – write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 – Execute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hree: group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hree: world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mo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s are represented as oc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wxrwxrwx = 111 111 111 = 7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wxrw-r-- = 111 110 100 = 7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w------- = 110 000 000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m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omd 755 script.p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yourself all permissions, group and world read and execute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Friendly ch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pecify modes without using octal represent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 3 character co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har:  u (user), g (group), o (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: + (add permissions) or - (remove permis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: r (read), w (write), x (exec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mod u+x fil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execute permissions on fil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mod o+r fil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others (ie, world) read permissions on fil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vs U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n’t like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oblems can (and will) arise due to difference in end-of-lin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\r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ix, a Windows \r can show up as ^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ndows, a Unix \n (missing the \r) can show up as 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no newline (at least in Notepad – Wordpad is mildly sma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a file from Windows to Unix, use the comm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2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s2unix oldfile new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2dos also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*ever* save a file in Windows and then transfer it to Unix, you should run dos2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r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 file from your Windows PC to your Unix RCS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ftp client (ex: CuteFTP) or the default Windows ftp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Paul for help with this if you don’t know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address of RCS is ftp.rpi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se an SCP client (ex: WinS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from http://winscp.vse.cz/e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rcs.rpi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0:57:12Z</dcterms:created>
  <dc:creator>Paul Lalli</dc:creator>
  <dc:description/>
  <dc:language>en-US</dc:language>
  <cp:lastModifiedBy>Preferred Customer</cp:lastModifiedBy>
  <dcterms:modified xsi:type="dcterms:W3CDTF">2002-07-27T16:46:25Z</dcterms:modified>
  <cp:revision>6</cp:revision>
  <dc:subject/>
  <dc:title>Intro. To Unix commands</dc:title>
</cp:coreProperties>
</file>