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4C6-403D-4820-A71A-573901C8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AE-7CA7-4206-BE35-4B24E17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8C6-4BE9-467D-A6D0-41B0F215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DB6-4CB3-493F-AB0F-B6BD56DA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6F3-B036-4132-BEFE-364A6F0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D74-2858-4173-9651-628F795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4D3-C26B-46A2-97DB-E09877A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AF4-227E-4AAE-8C74-E99FB3E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9DB-89F5-4A7A-9BF4-11AADC8C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CC4-A6D0-426B-898D-A490CD1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05D-28A5-4597-B1FE-C537FDA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E49-901A-4415-AB8D-8474323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 to Unix CEG 33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FB7-A110-4B56-A280-BFDA6777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wheeler.com/oss_fs_why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G 333 Introduction To U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d V. Rov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Science and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ght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acronym that stands for “GNU’s Not Unix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by Richard Stallman in 19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be a complete open/free Unix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to study the source code, free to modify the behavior of the software, and free to publish their modified versions of th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c (GNU Compiler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L (General Public License aka copy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beginning of the 1990s, GNU had produced or collected nearly all of the necessary components of the GNU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es, Compilers, text editors, Unix-like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he lowest level, the kern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NU project began developing their own kernel, the Hurd, in 1990 (after an abandoned attempt called Trix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early plan was to adapt the BSD 4.4-Lite ker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due to a lack of cooperation from the Berkeley programmers, Stallman decided instead to use the Mach microkernel, which subsequently proved unexpectedly difficult, and the Hurd's development proceeded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s Torvalds as a undergraduate student at University of Helsinki in 1991 released the Linux kernel under the G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ould combine GNU bash, GNU gcc, GNU utilities, and Linux to create a complete Unix operating system. Linux was the missing piece for the GNU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lman insists that all Linux operating systems should be called GNU/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27920" y="228600"/>
            <a:ext cx="1887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popular GNU/Linux flavors include Red Hat, SuSE, Debian, Slackware, and Mandr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istributions are shipped on multiple CD-ROMS and include lots of free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tools C, C++, Ja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s perl, Python,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servers (http, ftp, ssh, g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jor computer vendors (except Microsoft) have committed to support Linu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 Book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r Fun (book) Torvals and Dia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phy of Linux non-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edral &amp; The Bazaar (book and internet) Eric S. Ray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ftware Free Society: (book) Richard Stall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questions.org (internet) forum for linux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dp.org (The Linux Documentation Project) (internet) filled with How-To Guides o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operating sys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interacts with hardware and manages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not expected to know which hardware they will run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possible to change hardware without changing the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can’t manage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provides a safe environment for programs to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program runs on a comp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loads program from disk and allocates memory and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in program are run on CPU and OS keeps track of last instruction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ogram needs to access the hardware, OS does the job on its be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aves the state of the program if program has to leave CPU tempora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leans up memory and registers after process has completed exec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 files with vi, emacs, 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 ( lpr –Pecs_russ1 &lt;filename&gt;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(man &lt;command name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: EVERYTHING in UNIX is case-sen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D End of data stream; EOF/EOT; exit/log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C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ut Leav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Leave th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n the system is represented as a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gets done by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load shared by two separate programs (kernel and sh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uses system calls to do most of th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X systems use the same system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57880" y="1712880"/>
            <a:ext cx="66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0760" y="2627280"/>
            <a:ext cx="3439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 which executes the bin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p, mv, grep, tar, who,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84120" y="3809880"/>
            <a:ext cx="83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8520" y="5029200"/>
            <a:ext cx="1168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520" y="57513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page 16 of text for another view of UNIX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 to make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Travis Doom’s lecture notes CEG 333 Fall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“Your Unix: The ultimate gui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 Architecture: The Ker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always resides in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direct access to the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file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s processes, memory, and performs all housekee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copy shared by all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 Architecture: The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or command invoked only when the user log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d” b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user input, examines and rebuilds the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calls to the kernel for all othe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shell is invoked by every user, so a system may have several different shells running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has a choice of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the user and the ker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[-option 1] [argument 1] [-option 2] [argument 2]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ls –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and filenames need no specific extens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ommand’s behavior is determined by its arguments and op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and and arguments must be separated by whitespa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ly possible to combine multiple options into a single 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like ls -l -u -t == ls -lu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der of combining is generally not important (like ls -lut == ls -ut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e sensitiv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program on disk which c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nary executable (written in C, C++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ript file (like a shell or perl scrip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mmand of the shell which c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(like cd, pwd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as defined by the user that invokes the disk or internal version in a specific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identifies you by user and group numbers (UID and G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translated by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, groups, whoami, p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documentation of commands, configuration files, system calls and librar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in a number of sections. Commands are found in Sectio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o use section number when entry exists in multiple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man passwd and man -s 5 passw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documentation not available for most internal commands of the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 man first to know how ma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a ma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wc Syntax/Syno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 [ -c | -m | -C ] [ -lw ] [ file ...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information available in SYNOPSIS and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ptions grouped in [ ] without a |, one or more of them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l, -w and -lw are vali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| signifies an OR condition. (Only one of -c, -m or -C can be us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... means that multiple occurrences of the preceding item are possible. (wc can be used with multiple file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STATUS indicates values returned o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display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/Synta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t will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 [options] 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atenate (list)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[text string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 the text string to st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[-number]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first 10 (or number of) lines of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[options]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through a tex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[options]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last few lines (or parts) of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mputer scientists by computer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(nearly)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most modern Operating Systems (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by ABIT accreditati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/CEG students should be able to operate both Windows and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paration for data structures, 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day super computers and clusters all operate on some type of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Linux or Open Sou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Wheeler has the best paper on Linux Market Share/Performance/Reli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wheeler.com/oss_fs_wh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S/FS has significant market share in many markets, is often the most reliable software, and in many cases has the best performance. OSS/FS scales, both in problem size and project size. OSS/FS software often has far better security, perhaps due to the possibility of worldwide review. Total cost of ownership for OSS/FS is often far less than proprietary software, especially as the number of platforms increases. These statements are not merely opinions; these effects can be sh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ing a wide variety of meas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Operating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Operating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want all programs to have access to all instru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 is a program that acts as an intermediary between the application programs and the hardw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unication requires hardware resources, thus the OS is also an intermediary between users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any OS is to provide an environment in wh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(conveniently) execute programs and acc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can (efficiently and fairly) access system resources (processor time, memory, file space, I/O devic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 need not perform any other useful function: it is a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(kernel) controls access to al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oftware is an appl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existence of an OS simplify coding an ap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trust others to protect your rights and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U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9 (AT&amp;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 Thomspon and Dennis Ritchie designed a built a small system with an elegant file system, a command interpreter, and set of utilities.  To make UNIX portable, they rewrote the entire system in the C language that was invented by Ritc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keley Unix 3/9/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law prevented AT&amp;T from selling software so they would give UNIX away with no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D Unix (Berkely Software Distribution) was created to fill in holes that AT&amp;T left o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editor (v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Protocol Software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U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gets Fra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 Microsystems based Solaris o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had A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 offers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 produced Digital UNIX -&gt; Tru64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make things fun we now have GNU/Linu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X and the Single Unix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ime that Ritchie invented C no standards ex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T&amp;T created the System V Interface Definition (SV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ther organizations such as the X/Open group created 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people were concerned about the fragmentation of Unix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the POSIX (portable operating system interface for computer environments) was developed (IEE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1 X/Open and IEEE joined together to make the Single UNIX Specification Version 3 (SUSV3) which governs most Unix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22:08:10Z</dcterms:created>
  <dc:creator>Todd V. Rovito</dc:creator>
  <dc:description/>
  <dc:language>en-US</dc:language>
  <cp:lastModifiedBy>Todd V. Rovito</cp:lastModifiedBy>
  <dcterms:modified xsi:type="dcterms:W3CDTF">2006-03-28T04:48:26Z</dcterms:modified>
  <cp:revision>106</cp:revision>
  <dc:subject/>
  <dc:title>Introduction To Unix</dc:title>
</cp:coreProperties>
</file>