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6861-7440-4FBD-B4BB-73E45DD61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8736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F004-489F-41B8-A5BB-5DFFB3211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8736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6920" y="398736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C988-D279-4A6E-A816-897871876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160" y="160020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8736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736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160" y="398736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C700-FF72-468A-A7A5-59DB26701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81518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8736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5743-A3EA-4994-ABD2-32C47EDCF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6920" y="398736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8736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8736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8736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6920" y="398736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2160" y="160020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8736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6000" y="398736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2160" y="398736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2BA3-0EF0-4A99-94EE-1EF0A90F2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BF35-7B08-443D-9DCC-1C2871BE8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0A82-2E8B-4EDE-AB5F-0468EE454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81518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6A93-4196-4A96-A33B-AC1D274FC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8736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BA01-9955-454F-AE8B-1036CFE5C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6920" y="398736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B6384-3D12-4149-87E2-023FC2C70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6920" y="160020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8736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BC08-21B5-447F-9971-E770E0AF9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2" marL="1143000" indent="-22860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3" marL="1600200" indent="-22860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4" marL="2057400" indent="-22860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5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6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160"/>
            <a:ext cx="4189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6 Addison-Wesley. All rights reserved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F6E9C2B-A11F-4458-8672-9BA6BCD9720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219320"/>
            <a:ext cx="81536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008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3" name=""/>
          <p:cNvSpPr/>
          <p:nvPr/>
        </p:nvSpPr>
        <p:spPr>
          <a:xfrm>
            <a:off x="5805720" y="65833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SBN 0-321-33025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2" marL="1143000" indent="-22860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3" marL="1600200" indent="-22860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4" marL="2057400" indent="-228600">
              <a:lnSpc>
                <a:spcPct val="102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5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6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gular_expressio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9900"/>
                </a:solidFill>
                <a:latin typeface="Lucida Sans Unicode"/>
              </a:rPr>
              <a:t>Regular expression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680" y="2590920"/>
            <a:ext cx="701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.wikipedia.org/wiki/Regular_expression</a:t>
            </a:r>
            <a:endParaRPr b="0" lang="en-US" sz="2400" spc="-1" strike="noStrike">
              <a:solidFill>
                <a:srgbClr val="ff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Lucida Sans Unicode"/>
              </a:rPr>
              <a:t>Mastering Regular Expressions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</a:rPr>
              <a:t> by Jeffrey E. F. Friedl 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</a:rPr>
              <a:t>Linux editors and commands (e.g. grep) use regular expressions 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Anchor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Sometimes you want to check for something at the beginning or end of a string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/^The/</a:t>
            </a: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 matches only if the first three characters in the string are The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/tar$/</a:t>
            </a: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 matches only if the last three characters of the string are tar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If you need to match the beginning and/or end of a word, you can add a space at the appropriate end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D881-C025-458F-93E9-6F9A91CB23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Character Classe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You can put a set of characters inside square brackets to create a character class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[abc] means any one of a b or c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A ^ as the first character means any character that isn't in the set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[^abc] means any character except a b or c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You can also specify ranges of characters (based on ASCII codes)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[0-9] is any digit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26FB-3C2A-423A-A019-0A863956C7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Perl Compatible Regular Expression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Use \b to specify a word boundary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Named character classes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\d for any digit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\w for letters, digits and underscores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\s for whitespace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\D, \W, \S exclude the characters in the lower case set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{} after a regular expression can be used to specify a number of repeats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/i at end of pattern means case-insensitive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/s at end of pattern means match newlines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. normally only matches characters other than newlines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90A9-E0D3-4FD7-8945-A0E620E877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Lucida Sans Unicode"/>
              </a:rPr>
              <a:t>Regular Expressions for String Manipulation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split( regexp, string) tokenizes a string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s/regexp/replacement/ substitutes for regexp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g at end means do all occurrences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Expression memory allows you to remember what matches parts of pattern in parentheses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B329-FEAA-47F2-B6D1-7056E19D06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Regular Expressions in Java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Java has classes for using regular expressions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The String class has a matches method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cc"/>
                </a:solidFill>
                <a:latin typeface="Lucida Sans Unicode"/>
              </a:rPr>
              <a:t>parameter is a regular expression</a:t>
            </a:r>
            <a:endParaRPr b="0" lang="en-US" sz="21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The java.util.regex package has classes that can be used for pattern matching operations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cc"/>
                </a:solidFill>
                <a:latin typeface="Lucida Sans Unicode"/>
              </a:rPr>
              <a:t>Pattern represents regular expressions</a:t>
            </a:r>
            <a:endParaRPr b="0" lang="en-US" sz="2100" spc="-1" strike="noStrike">
              <a:solidFill>
                <a:srgbClr val="0000cc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cc"/>
                </a:solidFill>
                <a:latin typeface="Lucida Sans Unicode"/>
              </a:rPr>
              <a:t>Matcher creates an object that performs various pattern matching operations</a:t>
            </a:r>
            <a:endParaRPr b="0" lang="en-US" sz="21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65B3-4687-4B2F-9091-CCF17D528C5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Try thes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Give a regular expression to recognize 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java identifiers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integer literals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a phone number with optional country code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number on a license plate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Can you think of any others?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CEB6-1F80-4607-9517-80E98B7A4F4E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Language Theory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Chomsky identified four classes of language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Programming languages are described by a context-free grammar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Regular languages are somewhat simpler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324160" y="1981080"/>
            <a:ext cx="4497480" cy="2363760"/>
            <a:chOff x="2324160" y="1981080"/>
            <a:chExt cx="4497480" cy="2363760"/>
          </a:xfrm>
        </p:grpSpPr>
        <p:sp>
          <p:nvSpPr>
            <p:cNvPr id="86" name=""/>
            <p:cNvSpPr/>
            <p:nvPr/>
          </p:nvSpPr>
          <p:spPr>
            <a:xfrm>
              <a:off x="3314880" y="3870360"/>
              <a:ext cx="35049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Reg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24160" y="3870360"/>
              <a:ext cx="990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14880" y="3398760"/>
              <a:ext cx="35049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Context-f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24160" y="3398760"/>
              <a:ext cx="9907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4880" y="2925720"/>
              <a:ext cx="35049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Context-sensi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24160" y="2925720"/>
              <a:ext cx="990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14880" y="2454120"/>
              <a:ext cx="35049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Unrestric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24160" y="2454120"/>
              <a:ext cx="9907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4880" y="1981080"/>
              <a:ext cx="35049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Characteris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24160" y="1981080"/>
              <a:ext cx="990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24160" y="1981080"/>
              <a:ext cx="44956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24160" y="2454120"/>
              <a:ext cx="4495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24160" y="2925720"/>
              <a:ext cx="4495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24160" y="3398760"/>
              <a:ext cx="4495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24160" y="4343400"/>
              <a:ext cx="4495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24160" y="1981080"/>
              <a:ext cx="144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14880" y="1981080"/>
              <a:ext cx="1440" cy="236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19840" y="1981080"/>
              <a:ext cx="180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24160" y="3870360"/>
              <a:ext cx="4495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1868-B85B-497E-858B-FF8F82740A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Regular Grammar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Regular grammars are grammars whose BNF rules are restricted to the form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Courier New"/>
              </a:rPr>
              <a:t>&lt;lhs&gt; -&gt; terminal &lt;non-terminal&gt;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Regular grammars can be represented by finite state automata and by regular expressions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5A874-2EB7-472E-8F09-E6F10F5B76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Regular Expression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First described by Stephen Kleene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Used for pattern matching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Unix utilities like grep and awk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built into many scripting languages (e.g. perl)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libraries exist for other languages (Pattern and Matcher classes in Java)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No standard notation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Many languages use Perl Compatible Regular Expressions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Useful for describing things like identifiers and numbers for a programming language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F1C9-100B-4A06-9769-D7630B2CA1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Regular Expression Component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Atoms - the characters that can be combined to make the pattern being described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Concatenation - a sequence of atoms 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Alternation - a choice between several patterns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Kleene closure (*) - 0 or more occurrences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Positive closure (+) - 1 or more occurrences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nothing (</a:t>
            </a:r>
            <a:r>
              <a:rPr b="0" lang="en-GB" sz="2800" spc="-1" strike="noStrike">
                <a:solidFill>
                  <a:srgbClr val="0000cc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B44A-AE66-4C48-9BCB-C851E92939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Patterns and Matching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a pattern is generally enclosed between a matched pair of characters, most commonly //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/pattern/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anguages that support pattern matching may have a match operator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66960" y="4038480"/>
            <a:ext cx="5449680" cy="1844640"/>
            <a:chOff x="1866960" y="4038480"/>
            <a:chExt cx="5449680" cy="1844640"/>
          </a:xfrm>
        </p:grpSpPr>
        <p:sp>
          <p:nvSpPr>
            <p:cNvPr id="114" name=""/>
            <p:cNvSpPr/>
            <p:nvPr/>
          </p:nvSpPr>
          <p:spPr>
            <a:xfrm>
              <a:off x="5499000" y="5388120"/>
              <a:ext cx="18162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83160" y="5388120"/>
              <a:ext cx="18158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~=, m/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6960" y="5388120"/>
              <a:ext cx="18162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Per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99000" y="4890960"/>
              <a:ext cx="1816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!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83160" y="4890960"/>
              <a:ext cx="18158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6960" y="4890960"/>
              <a:ext cx="1816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AW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99000" y="4038480"/>
              <a:ext cx="1816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No Match op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3160" y="4038480"/>
              <a:ext cx="181584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Match op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6960" y="4038480"/>
              <a:ext cx="1816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6960" y="4038480"/>
              <a:ext cx="5448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66960" y="4890960"/>
              <a:ext cx="5448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66960" y="5388120"/>
              <a:ext cx="544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6960" y="5881680"/>
              <a:ext cx="5448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6960" y="4038480"/>
              <a:ext cx="1440" cy="18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3160" y="4038480"/>
              <a:ext cx="1440" cy="18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9000" y="4038480"/>
              <a:ext cx="1800" cy="18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5200" y="4038480"/>
              <a:ext cx="1440" cy="18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2159-0598-4958-A54A-6242494FF3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Regular Expression Metacharacter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Characters that have a special meaning within a pattern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819520" y="2286000"/>
            <a:ext cx="5182920" cy="4081320"/>
            <a:chOff x="2819520" y="2286000"/>
            <a:chExt cx="5182920" cy="4081320"/>
          </a:xfrm>
        </p:grpSpPr>
        <p:sp>
          <p:nvSpPr>
            <p:cNvPr id="134" name=""/>
            <p:cNvSpPr/>
            <p:nvPr/>
          </p:nvSpPr>
          <p:spPr>
            <a:xfrm>
              <a:off x="3809880" y="5958000"/>
              <a:ext cx="41911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5958000"/>
              <a:ext cx="990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5549760"/>
              <a:ext cx="41911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0 or 1 occur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520" y="5549760"/>
              <a:ext cx="990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5141880"/>
              <a:ext cx="41911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1 or more occur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19520" y="5141880"/>
              <a:ext cx="990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4734000"/>
              <a:ext cx="41911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0 or more occur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19520" y="4734000"/>
              <a:ext cx="990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880" y="4325760"/>
              <a:ext cx="41911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used to group charac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19520" y="4325760"/>
              <a:ext cx="990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3917880"/>
              <a:ext cx="41911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uses to enclose a character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917880"/>
              <a:ext cx="990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[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880" y="3510000"/>
              <a:ext cx="41911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matches end of 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9520" y="3510000"/>
              <a:ext cx="990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3102120"/>
              <a:ext cx="41911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matches beginning of 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9520" y="3102120"/>
              <a:ext cx="990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^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9880" y="2693880"/>
              <a:ext cx="41911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escape charac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19520" y="2693880"/>
              <a:ext cx="990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2286000"/>
              <a:ext cx="41911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any single charac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2286000"/>
              <a:ext cx="990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Lucida Sans Unicode"/>
                  <a:ea typeface="Lucida Sans Unicode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19520" y="2286000"/>
              <a:ext cx="5181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19520" y="2693880"/>
              <a:ext cx="518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19520" y="3102120"/>
              <a:ext cx="518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19520" y="3510000"/>
              <a:ext cx="518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3917880"/>
              <a:ext cx="518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19520" y="4325760"/>
              <a:ext cx="518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4734000"/>
              <a:ext cx="518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5141880"/>
              <a:ext cx="518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19520" y="5549760"/>
              <a:ext cx="518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19520" y="5958000"/>
              <a:ext cx="518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19520" y="6365880"/>
              <a:ext cx="5181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19520" y="2286000"/>
              <a:ext cx="1440" cy="407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2286000"/>
              <a:ext cx="1800" cy="407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01000" y="2286000"/>
              <a:ext cx="1440" cy="407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748D-9A9E-4A59-BB5A-E320584CD7E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Simple Example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A single character : 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/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Matches any string that contains the letter a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A sequence of characters</a:t>
            </a: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ab/</a:t>
            </a: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 matches any string that contains the letter a followed immediately by the letter b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bird/</a:t>
            </a: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 matches any string that contains the word bird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Regular/</a:t>
            </a: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 matches any string that contains the word Regular (matches are case-sensitive by default)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FEA8-137D-4B89-A932-87D71FFB4B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9a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Lucida Sans Unicode"/>
              </a:rPr>
              <a:t>More Example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Any character 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.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a followed by any character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A choice of two characters 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 | b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a  b  ac  ab   bc   but not cd ef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Optional repeated character 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b*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a  ab  abb abbbb abracadabra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Optional repeated sequence 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(bc)*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a abc abcbc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Lucida Sans Unico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Lucida Sans Unicode"/>
              </a:rPr>
              <a:t>At least one of a sequence 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urier New"/>
              </a:rPr>
              <a:t>+</a:t>
            </a:r>
            <a:endParaRPr b="0" lang="en-US" sz="2400" spc="-1" strike="noStrike">
              <a:solidFill>
                <a:srgbClr val="0000cc"/>
              </a:solidFill>
              <a:latin typeface="Lucida Sans Unicode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Lucida Sans Unico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Lucida Sans Unicode"/>
              </a:rPr>
              <a:t>ab  abb abbbb abracadabra</a:t>
            </a: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00DA-73FD-4F8B-B7FD-E6C3F0AB14E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Garrett</dc:creator>
  <dc:description/>
  <dc:language>en-US</dc:language>
  <cp:lastModifiedBy>Teresa Cole</cp:lastModifiedBy>
  <cp:revision>0</cp:revision>
  <dc:subject/>
  <dc:title>Chapter 1</dc:title>
</cp:coreProperties>
</file>