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24FC-7B4C-4850-BCF2-CB585094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3E67-658A-4350-B9E0-A89B5C2D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9CBC-89E9-49C9-BEBB-1791C4EE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0287-FBE4-4EF9-A8BA-58CB94D4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62C8-1137-455E-AAA7-B6E324EF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6242-7A1A-4DC2-BFBF-E077EDD8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1A66-5FAF-4D1E-9E9A-58DE0F34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50A4-67BB-41E7-A832-87477CB7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7257-8813-4259-99EA-7BA11AC9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EEF0-AC0B-416D-9331-F41522AA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D0E1-121F-4492-851E-73B6029E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E890-1785-4CE3-9A9F-94091068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1BC0-2A60-4FBD-B5FE-E6F1830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9335-D94C-498E-B172-0A19894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D276-6E0C-4F30-A4BB-DB75E041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A458-E91F-440B-8520-0E240BBD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062E-4749-4872-8317-224335DC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F383-A5C4-4CB8-80BE-BE16A8CC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973C-8DF6-4C8A-9E28-1342CB5F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1157-F11D-4AE4-A59F-1BED35AE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4BD7-C27D-47AB-B52B-AC73A330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3B0B-D852-476D-A979-20D07BF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1AA4-2520-4105-8476-B57EA58E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CC62-9AE9-4EE8-8027-E0CD177E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8FC9-2775-47F9-B766-021140936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8077320" y="6118200"/>
            <a:ext cx="8380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7248-27F9-4197-8BA9-BAC021B12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77320" y="6118200"/>
            <a:ext cx="838080" cy="519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ffffff"/>
                </a:solidFill>
                <a:latin typeface="Arial Black"/>
              </a:rPr>
              <a:t>Regular Expression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simple and powerful way to match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71500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urent Falquet, EPFL March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617220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Swiss Institute of Bioinforma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Swiss EMBne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-liners: some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a autosplit (only with -n or -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c check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d debug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e pass script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h hel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i direct editing of a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n loop without p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p loop with p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v 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l -e 'print qq(hello world\n);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-liners: -n and -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l -pe ‘s/\r/\n/g’ &lt;fi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is equivalent t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n READ, “fil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&lt;READ&gt;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/\r/\n/g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ose(RE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l -i -pe ‘s/\r/\n/g’ &lt;fi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31a"/>
                </a:solidFill>
                <a:latin typeface="Times New Roman"/>
              </a:rPr>
              <a:t>Warning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-i option modifies the file direct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l -ne is the same without the “print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-liners: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a (only with -n or -p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l -ane ‘print @F, “\n”;’ &lt;fil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is equivalent t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n READ, “fil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&lt;READ&gt;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F = split(‘ ‘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 @F, “\n”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ose(RE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hits -b 'sw' -o pff2 prf:CARD | perl -ane 'print join("\t", reverse(@F)),"\n";'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-liners: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a (only with -n or -p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w:ICEA_XENLA   1       90      prf:CARD        5       -1      18.5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w:RIK2_MOUSE   435     513     prf:CARD        5       -11     15.05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w:CARC_HUMAN   1       88      prf:CARD        6       -1      15.3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w:NAL1_HUMAN   1380    1463    prf:CARD        7       -1      15.05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w:ASC_HUMAN    113     195     prf:CARD        7       -2      15.37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w:CAR8_HUMAN   347     430     prf:CARD        8       -1      18.34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w:CARF_HUMAN   134     218     prf:CARD        9       -1      12.9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4920" y="4038120"/>
            <a:ext cx="82296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s -b 'sw' -o pff2 prf:CARD | </a:t>
            </a:r>
            <a:r>
              <a:rPr b="0" lang="en-US" sz="2000" spc="-1" strike="noStrike">
                <a:solidFill>
                  <a:srgbClr val="02e600"/>
                </a:solidFill>
                <a:latin typeface="Times New Roman"/>
              </a:rPr>
              <a:t>perl -ane 'print join("\t", reverse(@F)),"\n";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676520"/>
            <a:ext cx="842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s -b 'sw' -o pff2 prf: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495680"/>
            <a:ext cx="7924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8.553  -1      5       prf:CARD        90      1       sw:ICEA_XEN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5.058  -11     5       prf:CARD        513     435     sw:RIK2_MOU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5.395  -1      6       prf:CARD        88      1       sw:CARC_HUM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5.058  -1      7       prf:CARD        1463    1380    sw:NAL1_HUM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5.374  -2      7       prf:CARD        195     113     sw:ASC_HUM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8.343  -1      8       prf:CARD        430     347     sw:CAR8_HUM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2.932  -1      9       prf:CARD        218     134     sw:CARF_HUM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-liners: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l -e ‘print int(rand(100)),"\n" for 1..100' | perl -e '$x{$_}=1 while &lt;&gt;;print sort {$a&lt;=&gt;$b} keys %x'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160" y="3428640"/>
            <a:ext cx="7923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$i=0;$i&lt;100;$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nb = int(rand(100)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hash{$nb} = 1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 sort {$a&lt;=&gt;$b} keys %has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-liners: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tract FASTA from S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1544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t /db/proteome/ECOLI.dat | perl -ne ‘if (/^ID +(\w+)/) {print"&gt;$1\n";} if(/^ /) {s/ //g; print}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80520" y="1905120"/>
            <a:ext cx="8153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n (READ, “/db/proteome/ECOLI.dat”); </a:t>
            </a:r>
            <a:r>
              <a:rPr b="0" lang="en-US" sz="1800" spc="-1" strike="noStrike">
                <a:solidFill>
                  <a:srgbClr val="b2b2b2"/>
                </a:solidFill>
                <a:latin typeface="Courier New"/>
              </a:rPr>
              <a:t># open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$line=&lt;READ&gt;) {  </a:t>
            </a:r>
            <a:r>
              <a:rPr b="0" lang="en-US" sz="1800" spc="-1" strike="noStrike">
                <a:solidFill>
                  <a:srgbClr val="b2b2b2"/>
                </a:solidFill>
                <a:latin typeface="Courier New"/>
              </a:rPr>
              <a:t># read line by line until the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$line=~ /^ID +(\w+)/) { print “&gt;$1\n”; } </a:t>
            </a:r>
            <a:r>
              <a:rPr b="0" lang="en-US" sz="1800" spc="-1" strike="noStrike">
                <a:solidFill>
                  <a:srgbClr val="b2b2b2"/>
                </a:solidFill>
                <a:latin typeface="Courier New"/>
              </a:rPr>
              <a:t># print fasta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$line=~ /^ /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ine =~ s/ //g;  </a:t>
            </a:r>
            <a:r>
              <a:rPr b="0" lang="en-US" sz="1800" spc="-1" strike="noStrike">
                <a:solidFill>
                  <a:srgbClr val="b2b2b2"/>
                </a:solidFill>
                <a:latin typeface="Courier New"/>
              </a:rPr>
              <a:t># remove 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$line;        </a:t>
            </a:r>
            <a:r>
              <a:rPr b="0" lang="en-US" sz="1800" spc="-1" strike="noStrike">
                <a:solidFill>
                  <a:srgbClr val="b2b2b2"/>
                </a:solidFill>
                <a:latin typeface="Courier New"/>
              </a:rPr>
              <a:t># print sequenc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se(REA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-liners: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turn…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 In-liner that extracts non-redundant FASTA format sequences from a redundant database in SwissPro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2887200"/>
            <a:ext cx="822960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t /db/proteome/ECOLI.dat | perl -ne ' if (/^ID +(\w+)/) {print "&gt;$1\n”;} if(/^ /) {s/ //g; print}' | perl -e 'while(&lt;&gt;) { if (/&gt;/) { $i=$_; $x{$i}=""} $x{$i}.=$_} print values %x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gular Express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752480"/>
            <a:ext cx="40006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What is a regular ex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teral (or normal charac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lphanumer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bc…ABC…0123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unct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_ ,.;:=()/+ *%&amp;{}[]?!$’^|\&lt;&gt;"@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eta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:  ls </a:t>
            </a:r>
            <a:r>
              <a:rPr b="0" lang="fr-FR" sz="1800" spc="-1" strike="noStrike">
                <a:solidFill>
                  <a:srgbClr val="000080"/>
                </a:solidFill>
                <a:latin typeface="Times New Roman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lavor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wk, egrep, Emacs, grep, </a:t>
            </a:r>
            <a:r>
              <a:rPr b="0" lang="fr-FR" sz="1800" spc="-1" strike="noStrike">
                <a:solidFill>
                  <a:srgbClr val="02e600"/>
                </a:solidFill>
                <a:latin typeface="Times New Roman"/>
              </a:rPr>
              <a:t>Per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, POSIX, Tcl, </a:t>
            </a:r>
            <a:r>
              <a:rPr b="0" lang="fr-FR" sz="1800" spc="-1" strike="noStrike">
                <a:solidFill>
                  <a:srgbClr val="ff00f3"/>
                </a:solidFill>
                <a:latin typeface="Times New Roman"/>
              </a:rPr>
              <a:t>PROSI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25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Example: PROSITE Patterns are regular express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Pattern: </a:t>
            </a:r>
            <a:r>
              <a:rPr b="0" lang="fr-FR" sz="3000" spc="-1" strike="noStrike">
                <a:solidFill>
                  <a:srgbClr val="ff1030"/>
                </a:solidFill>
                <a:latin typeface="Times New Roman"/>
              </a:rPr>
              <a:t>&lt;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3000" spc="-1" strike="noStrike">
                <a:solidFill>
                  <a:srgbClr val="ffc31a"/>
                </a:solidFill>
                <a:latin typeface="Times New Roman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3000" spc="-1" strike="noStrike">
                <a:solidFill>
                  <a:srgbClr val="02e600"/>
                </a:solidFill>
                <a:latin typeface="Times New Roman"/>
              </a:rPr>
              <a:t>[ST](2)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3000" spc="-1" strike="noStrike">
                <a:solidFill>
                  <a:srgbClr val="b2b2b2"/>
                </a:solidFill>
                <a:latin typeface="Times New Roman"/>
              </a:rPr>
              <a:t>x(0,1)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3000" spc="-1" strike="noStrike">
                <a:solidFill>
                  <a:srgbClr val="0000ff"/>
                </a:solidFill>
                <a:latin typeface="Times New Roman"/>
              </a:rPr>
              <a:t>{V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Perl Regexp: </a:t>
            </a:r>
            <a:r>
              <a:rPr b="0" lang="fr-FR" sz="3000" spc="-1" strike="noStrike">
                <a:solidFill>
                  <a:srgbClr val="ff1030"/>
                </a:solidFill>
                <a:latin typeface="Times New Roman"/>
              </a:rPr>
              <a:t>^A</a:t>
            </a:r>
            <a:r>
              <a:rPr b="1" lang="fr-FR" sz="3000" spc="-1" strike="noStrike">
                <a:solidFill>
                  <a:srgbClr val="ffc31a"/>
                </a:solidFill>
                <a:latin typeface="Times New Roman"/>
              </a:rPr>
              <a:t>.</a:t>
            </a:r>
            <a:r>
              <a:rPr b="0" lang="fr-FR" sz="3000" spc="-1" strike="noStrike">
                <a:solidFill>
                  <a:srgbClr val="02e600"/>
                </a:solidFill>
                <a:latin typeface="Times New Roman"/>
              </a:rPr>
              <a:t>[ST]{2}</a:t>
            </a:r>
            <a:r>
              <a:rPr b="1" lang="fr-FR" sz="3000" spc="-1" strike="noStrike">
                <a:solidFill>
                  <a:srgbClr val="b2b2b2"/>
                </a:solidFill>
                <a:latin typeface="Times New Roman"/>
              </a:rPr>
              <a:t>.</a:t>
            </a:r>
            <a:r>
              <a:rPr b="0" lang="fr-FR" sz="3000" spc="-1" strike="noStrike">
                <a:solidFill>
                  <a:srgbClr val="b2b2b2"/>
                </a:solidFill>
                <a:latin typeface="Times New Roman"/>
              </a:rPr>
              <a:t>?</a:t>
            </a:r>
            <a:r>
              <a:rPr b="0" lang="fr-FR" sz="3000" spc="-1" strike="noStrike">
                <a:solidFill>
                  <a:srgbClr val="0000ff"/>
                </a:solidFill>
                <a:latin typeface="Times New Roman"/>
              </a:rPr>
              <a:t>[^V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Text:</a:t>
            </a:r>
            <a:r>
              <a:rPr b="0" lang="fr-FR" sz="3000" spc="-1" strike="noStrike">
                <a:solidFill>
                  <a:srgbClr val="9999cc"/>
                </a:solidFill>
                <a:latin typeface="Times New Roman"/>
              </a:rPr>
              <a:t> </a:t>
            </a:r>
            <a:r>
              <a:rPr b="0" lang="fr-FR" sz="3000" spc="-1" strike="noStrike">
                <a:solidFill>
                  <a:srgbClr val="ff1030"/>
                </a:solidFill>
                <a:latin typeface="Times New Roman"/>
              </a:rPr>
              <a:t>The sequence must start with an alanine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3000" spc="-1" strike="noStrike">
                <a:solidFill>
                  <a:srgbClr val="ffc31a"/>
                </a:solidFill>
                <a:latin typeface="Times New Roman"/>
              </a:rPr>
              <a:t>followed by any amino acid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3000" spc="-1" strike="noStrike">
                <a:solidFill>
                  <a:srgbClr val="02e600"/>
                </a:solidFill>
                <a:latin typeface="Times New Roman"/>
              </a:rPr>
              <a:t>followed by a serine or a threonine, two times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3000" spc="-1" strike="noStrike">
                <a:solidFill>
                  <a:srgbClr val="b2b2b2"/>
                </a:solidFill>
                <a:latin typeface="Times New Roman"/>
              </a:rPr>
              <a:t>followed by any amino acid or nothing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3000" spc="-1" strike="noStrike">
                <a:solidFill>
                  <a:srgbClr val="0000ff"/>
                </a:solidFill>
                <a:latin typeface="Times New Roman"/>
              </a:rPr>
              <a:t>followed by any amino acid except a vali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Simply the syntax differ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Regular Express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In Perl:   /…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Start and End of lin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f3"/>
                </a:solidFill>
                <a:latin typeface="Times New Roman"/>
              </a:rPr>
              <a:t>^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start, </a:t>
            </a:r>
            <a:r>
              <a:rPr b="0" lang="fr-FR" sz="2000" spc="-1" strike="noStrike">
                <a:solidFill>
                  <a:srgbClr val="ff00f3"/>
                </a:solidFill>
                <a:latin typeface="Times New Roman"/>
              </a:rPr>
              <a:t>$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tch any of severa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f3"/>
                </a:solidFill>
                <a:latin typeface="Times New Roman"/>
              </a:rPr>
              <a:t>[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fr-FR" sz="2000" spc="-1" strike="noStrike">
                <a:solidFill>
                  <a:srgbClr val="ff00f3"/>
                </a:solidFill>
                <a:latin typeface="Times New Roman"/>
              </a:rPr>
              <a:t>]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0" lang="fr-FR" sz="2000" spc="-1" strike="noStrike">
                <a:solidFill>
                  <a:srgbClr val="ff00f3"/>
                </a:solidFill>
                <a:latin typeface="Times New Roman"/>
              </a:rPr>
              <a:t>(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fr-FR" sz="2000" spc="-1" strike="noStrike">
                <a:solidFill>
                  <a:srgbClr val="ff00f3"/>
                </a:solidFill>
                <a:latin typeface="Times New Roman"/>
              </a:rPr>
              <a:t>|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fr-FR" sz="2000" spc="-1" strike="noStrike">
                <a:solidFill>
                  <a:srgbClr val="ff00f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tch 0, 1 or mo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f3"/>
                </a:solidFill>
                <a:latin typeface="Times New Roman"/>
              </a:rPr>
              <a:t>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1 of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f3"/>
                </a:solidFill>
                <a:latin typeface="Times New Roman"/>
              </a:rPr>
              <a:t>?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0 o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f3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1 o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f3"/>
                </a:solidFill>
                <a:latin typeface="Times New Roman"/>
              </a:rPr>
              <a:t>*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0 o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f3"/>
                </a:solidFill>
                <a:latin typeface="Times New Roman"/>
              </a:rPr>
              <a:t>{m,n}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f3"/>
                </a:solidFill>
                <a:latin typeface="Times New Roman"/>
              </a:rPr>
              <a:t>!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523880"/>
            <a:ext cx="4000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tch every instance of a SwissProt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fr-FR" sz="1800" spc="-1" strike="noStrike">
                <a:solidFill>
                  <a:srgbClr val="ff00f3"/>
                </a:solidFill>
                <a:latin typeface="Times New Roman"/>
              </a:rPr>
              <a:t>/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[OPQ][0-9][A-Z0-9]{3}[0-9]</a:t>
            </a:r>
            <a:r>
              <a:rPr b="1" lang="fr-FR" sz="1800" spc="-1" strike="noStrike">
                <a:solidFill>
                  <a:srgbClr val="ff00f3"/>
                </a:solidFill>
                <a:latin typeface="Times New Roman"/>
              </a:rPr>
              <a:t>/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fr-FR" sz="1800" spc="-1" strike="noStrike">
                <a:solidFill>
                  <a:srgbClr val="ff00f3"/>
                </a:solidFill>
                <a:latin typeface="Times New Roman"/>
              </a:rPr>
              <a:t>/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[OPQ]\d[A-Z0-9]{3}\d</a:t>
            </a:r>
            <a:r>
              <a:rPr b="1" lang="fr-FR" sz="1800" spc="-1" strike="noStrike">
                <a:solidFill>
                  <a:srgbClr val="ff00f3"/>
                </a:solidFill>
                <a:latin typeface="Times New Roman"/>
              </a:rPr>
              <a:t>/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tch every instance of a SwissPro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/[A-Z0-9]{2,5}_[A-Z0-9]{3,5}/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Regular Express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scape character or back re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3"/>
                </a:solidFill>
                <a:latin typeface="Arial Black"/>
              </a:rPr>
              <a:t>\</a:t>
            </a:r>
            <a:r>
              <a:rPr b="0" lang="fr-FR" sz="1400" spc="-1" strike="noStrike">
                <a:solidFill>
                  <a:srgbClr val="ffc31a"/>
                </a:solidFill>
                <a:latin typeface="Arial Black"/>
              </a:rPr>
              <a:t>char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 or  </a:t>
            </a:r>
            <a:r>
              <a:rPr b="0" lang="fr-FR" sz="1400" spc="-1" strike="noStrike">
                <a:solidFill>
                  <a:srgbClr val="ff00f3"/>
                </a:solidFill>
                <a:latin typeface="Arial Black"/>
              </a:rPr>
              <a:t>\</a:t>
            </a:r>
            <a:r>
              <a:rPr b="0" lang="fr-FR" sz="1400" spc="-1" strike="noStrike">
                <a:solidFill>
                  <a:srgbClr val="ffc31a"/>
                </a:solidFill>
                <a:latin typeface="Arial Black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hort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3"/>
                </a:solidFill>
                <a:latin typeface="Arial Black"/>
              </a:rPr>
              <a:t>\d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digit [0-9]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3"/>
                </a:solidFill>
                <a:latin typeface="Arial Black"/>
              </a:rPr>
              <a:t>\s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 whitespace [space\f\n\r\t]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3"/>
                </a:solidFill>
                <a:latin typeface="Arial Black"/>
              </a:rPr>
              <a:t>\w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character [a-zA-Z0-9_]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3"/>
                </a:solidFill>
                <a:latin typeface="Arial Black"/>
              </a:rPr>
              <a:t>\D\S\W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complement of \d\s\w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yte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3"/>
                </a:solidFill>
                <a:latin typeface="Arial Black"/>
              </a:rPr>
              <a:t>\</a:t>
            </a:r>
            <a:r>
              <a:rPr b="0" lang="fr-FR" sz="1400" spc="-1" strike="noStrike">
                <a:solidFill>
                  <a:srgbClr val="ffc31a"/>
                </a:solidFill>
                <a:latin typeface="Arial Black"/>
              </a:rPr>
              <a:t>num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 character in octa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3"/>
                </a:solidFill>
                <a:latin typeface="Arial Black"/>
              </a:rPr>
              <a:t>\x</a:t>
            </a:r>
            <a:r>
              <a:rPr b="0" lang="fr-FR" sz="1400" spc="-1" strike="noStrike">
                <a:solidFill>
                  <a:srgbClr val="ffc31a"/>
                </a:solidFill>
                <a:latin typeface="Arial Black"/>
              </a:rPr>
              <a:t>num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character in hexadecima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3"/>
                </a:solidFill>
                <a:latin typeface="Arial Black"/>
              </a:rPr>
              <a:t>\c</a:t>
            </a:r>
            <a:r>
              <a:rPr b="0" lang="fr-FR" sz="1400" spc="-1" strike="noStrike">
                <a:solidFill>
                  <a:srgbClr val="ffc31a"/>
                </a:solidFill>
                <a:latin typeface="Arial Black"/>
              </a:rPr>
              <a:t>char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control character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976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atch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m/…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$var =~ m/colou?r/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$var !~ m/colou?r/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ubstitution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/…/…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$var =~ s/colou?r/couleur/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late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r/…/…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$revcomp =~ tr/ACGT/tgca/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difiers /…/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i case in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g global m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any other /s,/m,/o,/x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Regular Expression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383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External reference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$var =~ s/sp\:</a:t>
            </a:r>
            <a:r>
              <a:rPr b="0" lang="fr-FR" sz="1300" spc="-1" strike="noStrike">
                <a:solidFill>
                  <a:srgbClr val="ff00f3"/>
                </a:solidFill>
                <a:latin typeface="Courier New"/>
              </a:rPr>
              <a:t>(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\w\d{5}</a:t>
            </a:r>
            <a:r>
              <a:rPr b="0" lang="fr-FR" sz="1300" spc="-1" strike="noStrike">
                <a:solidFill>
                  <a:srgbClr val="ff00f3"/>
                </a:solidFill>
                <a:latin typeface="Courier New"/>
              </a:rPr>
              <a:t>)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/swissprot AC=</a:t>
            </a:r>
            <a:r>
              <a:rPr b="0" lang="fr-FR" sz="1300" spc="-1" strike="noStrike">
                <a:solidFill>
                  <a:srgbClr val="ff00f3"/>
                </a:solidFill>
                <a:latin typeface="Courier New"/>
              </a:rPr>
              <a:t>$1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/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nternal reference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$var =~ s/tr\:</a:t>
            </a:r>
            <a:r>
              <a:rPr b="0" lang="fr-FR" sz="1300" spc="-1" strike="noStrike">
                <a:solidFill>
                  <a:srgbClr val="ff00f3"/>
                </a:solidFill>
                <a:latin typeface="Courier New"/>
              </a:rPr>
              <a:t>(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\w\d{5}</a:t>
            </a:r>
            <a:r>
              <a:rPr b="0" lang="fr-FR" sz="1300" spc="-1" strike="noStrike">
                <a:solidFill>
                  <a:srgbClr val="ff00f3"/>
                </a:solidFill>
                <a:latin typeface="Courier New"/>
              </a:rPr>
              <a:t>)</a:t>
            </a:r>
            <a:r>
              <a:rPr b="0" lang="fr-FR" sz="1300" spc="-1" strike="noStrike">
                <a:solidFill>
                  <a:srgbClr val="ffffff"/>
                </a:solidFill>
                <a:latin typeface="Courier New"/>
              </a:rPr>
              <a:t>\|</a:t>
            </a:r>
            <a:r>
              <a:rPr b="0" lang="fr-FR" sz="1300" spc="-1" strike="noStrike">
                <a:solidFill>
                  <a:srgbClr val="ff00f3"/>
                </a:solidFill>
                <a:latin typeface="Courier New"/>
              </a:rPr>
              <a:t>\1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/trembl AC</a:t>
            </a:r>
            <a:r>
              <a:rPr b="0" lang="fr-FR" sz="1300" spc="-1" strike="noStrike">
                <a:solidFill>
                  <a:srgbClr val="ffffff"/>
                </a:solidFill>
                <a:latin typeface="Courier New"/>
              </a:rPr>
              <a:t>=$1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/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Numbering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$1 to $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$10 to more if needed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7920" y="1980720"/>
            <a:ext cx="399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Create a regexp to recognize any pseudo IP address:  </a:t>
            </a:r>
            <a:r>
              <a:rPr b="0" lang="fr-FR" sz="1400" spc="-1" strike="noStrike">
                <a:solidFill>
                  <a:srgbClr val="ffc31a"/>
                </a:solidFill>
                <a:latin typeface="Arial Black"/>
              </a:rPr>
              <a:t>012.345.678.912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Create a regexp to recognize any email address: </a:t>
            </a:r>
            <a:r>
              <a:rPr b="0" lang="fr-FR" sz="1400" spc="-1" strike="noStrike">
                <a:solidFill>
                  <a:srgbClr val="ffc31a"/>
                </a:solidFill>
                <a:latin typeface="Arial Black"/>
              </a:rPr>
              <a:t>Jean.Dupond@isb-sib.ch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Create a regexp to change any HTML tag to another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c31a"/>
                </a:solidFill>
                <a:latin typeface="Times New Roman"/>
              </a:rPr>
              <a:t>&lt;address&gt;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-&gt;  </a:t>
            </a:r>
            <a:r>
              <a:rPr b="0" lang="fr-FR" sz="1600" spc="-1" strike="noStrike">
                <a:solidFill>
                  <a:srgbClr val="02e600"/>
                </a:solidFill>
                <a:latin typeface="Times New Roman"/>
              </a:rPr>
              <a:t>&lt;pr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On sib-dea: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use </a:t>
            </a:r>
            <a:r>
              <a:rPr b="0" lang="fr-FR" sz="1400" spc="-1" strike="noStrike">
                <a:solidFill>
                  <a:srgbClr val="ff00f3"/>
                </a:solidFill>
                <a:latin typeface="Arial Black"/>
              </a:rPr>
              <a:t>visual_regexp-1.2.tcl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to check your regular expressions (requires X-windows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Regular Expressions (4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0139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ution RegEx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[\d{1,3}\.]{3}\d{1,3}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\w+\.\w+\@\w+\-?\w+\.[a-z]{2,4}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\&lt;(\/?)address\&gt;/\&lt;$1pre\&gt;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iz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ddress = \w+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976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Perl In-liner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352680" y="3780000"/>
            <a:ext cx="3810240" cy="307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24080" y="3429000"/>
            <a:ext cx="4489560" cy="800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08:07:42Z</dcterms:created>
  <dc:creator>uni ls</dc:creator>
  <dc:description/>
  <dc:language>en-US</dc:language>
  <cp:lastModifiedBy>uni ls</cp:lastModifiedBy>
  <dcterms:modified xsi:type="dcterms:W3CDTF">2005-02-16T08:49:23Z</dcterms:modified>
  <cp:revision>14</cp:revision>
  <dc:subject/>
  <dc:title>Regular Expressions</dc:title>
</cp:coreProperties>
</file>