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03B-D0BA-467E-AF67-D1A541A2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00A-E8AC-4D07-B481-26C69E42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E77-6BA3-467D-ACEB-2DC5B8B7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14A-2737-4B71-9F1A-E36665F6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71F9-2A27-4CEA-A71F-641F67C2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85FC-162D-4341-B341-646DDF4E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913-E721-4953-AB93-C4811724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D4F-3B94-4E05-829A-BD57D12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2E8-21C3-4EE7-80E5-AA36DE93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1347-D028-4466-BDFD-7DA2DBE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920C-6A1B-4725-853A-6F815E9B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5B3-2C25-453B-AA14-23D55FA4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166E-3CAD-40CC-9DC5-99BDB698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FD80-877C-44DD-BB54-B0C4117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F0C-754C-4D12-84DE-DF4C9372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97A9-EE11-4007-A193-A22CEA73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3102-95CE-4D9B-96BC-3068D2CD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612-1464-474F-A296-A3A20DF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B7E-780E-4AE7-9216-BE8DC221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605-EE05-4A83-9527-A6202BA7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0B2-5B6A-4413-9856-8BF08007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188-5709-4EB6-81E3-C7350B93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B8E-EE77-4008-98D9-D753045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593-1D49-475C-BE66-C0C3F6B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37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3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ee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ee3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ee3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878-1963-4962-A1E3-333BD7F05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AB8B-7FDF-414A-B6BF-98AFB32F8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37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ee37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ee37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ee37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ee37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bsys.ucr.edu/training/php_11_2004/webcounter.tx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cs.php.net/" TargetMode="External"/><Relationship Id="rId3" Type="http://schemas.openxmlformats.org/officeDocument/2006/relationships/hyperlink" Target="http://docs.php.net/" TargetMode="External"/><Relationship Id="rId4" Type="http://schemas.openxmlformats.org/officeDocument/2006/relationships/hyperlink" Target="http://docs.php.net/" TargetMode="External"/><Relationship Id="rId5" Type="http://schemas.openxmlformats.org/officeDocument/2006/relationships/hyperlink" Target="http://academ.hvcc.edu/~kantopet/php/index.php" TargetMode="External"/><Relationship Id="rId6" Type="http://schemas.openxmlformats.org/officeDocument/2006/relationships/hyperlink" Target="http://www.phpide.de/" TargetMode="External"/><Relationship Id="rId7" Type="http://schemas.openxmlformats.org/officeDocument/2006/relationships/hyperlink" Target="http://www.jedit.org/" TargetMode="External"/><Relationship Id="rId8" Type="http://schemas.openxmlformats.org/officeDocument/2006/relationships/hyperlink" Target="http://www.jedit.org/" TargetMode="External"/><Relationship Id="rId9" Type="http://schemas.openxmlformats.org/officeDocument/2006/relationships/hyperlink" Target="http://www.jedit.org/" TargetMode="External"/><Relationship Id="rId10" Type="http://schemas.openxmlformats.org/officeDocument/2006/relationships/hyperlink" Target="http://www.oracle.com/technology/pub/articles/php_experts/rasmus_php.html" TargetMode="External"/><Relationship Id="rId11" Type="http://schemas.openxmlformats.org/officeDocument/2006/relationships/hyperlink" Target="http://hotscripts.com/PHP/Scripts_and_Programs/index.html" TargetMode="External"/><Relationship Id="rId12" Type="http://schemas.openxmlformats.org/officeDocument/2006/relationships/hyperlink" Target="http://hotscripts.com/PHP/Scripts_and_Programs/index.html" TargetMode="External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end.com/manual/function.array-combine.php" TargetMode="External"/><Relationship Id="rId3" Type="http://schemas.openxmlformats.org/officeDocument/2006/relationships/hyperlink" Target="http://www.zend.com/manual/function.array-combine.php" TargetMode="External"/><Relationship Id="rId4" Type="http://schemas.openxmlformats.org/officeDocument/2006/relationships/hyperlink" Target="http://www.zend.com/manual/function.array-walk-recursive.php" TargetMode="External"/><Relationship Id="rId5" Type="http://schemas.openxmlformats.org/officeDocument/2006/relationships/hyperlink" Target="http://www.zend.com/manual/function.array-walk-recursive.php" TargetMode="External"/><Relationship Id="rId6" Type="http://schemas.openxmlformats.org/officeDocument/2006/relationships/hyperlink" Target="http://www.zend.com/manual/function.idate.php" TargetMode="External"/><Relationship Id="rId7" Type="http://schemas.openxmlformats.org/officeDocument/2006/relationships/hyperlink" Target="http://www.zend.com/manual/function.idate.php" TargetMode="External"/><Relationship Id="rId8" Type="http://schemas.openxmlformats.org/officeDocument/2006/relationships/hyperlink" Target="http://www.zend.com/manual/function.date-sunset.php" TargetMode="External"/><Relationship Id="rId9" Type="http://schemas.openxmlformats.org/officeDocument/2006/relationships/hyperlink" Target="http://www.zend.com/manual/function.date-sunset.php" TargetMode="External"/><Relationship Id="rId10" Type="http://schemas.openxmlformats.org/officeDocument/2006/relationships/hyperlink" Target="http://www.zend.com/manual/function.date-sunrise.php" TargetMode="External"/><Relationship Id="rId11" Type="http://schemas.openxmlformats.org/officeDocument/2006/relationships/hyperlink" Target="http://www.zend.com/manual/function.date-sunrise.php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p.net/usage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pide.de/" TargetMode="External"/><Relationship Id="rId3" Type="http://schemas.openxmlformats.org/officeDocument/2006/relationships/hyperlink" Target="http://www.jedit.org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HP – An Introduction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378"/>
                </a:solidFill>
                <a:latin typeface="Arial"/>
              </a:rPr>
              <a:t>Albert Morita – UCR Libraries Systems Dept.</a:t>
            </a:r>
            <a:endParaRPr b="0" lang="en-US" sz="2400" spc="-1" strike="noStrike">
              <a:solidFill>
                <a:srgbClr val="eee37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378"/>
                </a:solidFill>
                <a:latin typeface="Arial"/>
              </a:rPr>
              <a:t>December 9, 2004</a:t>
            </a:r>
            <a:endParaRPr b="0" lang="en-US" sz="2400" spc="-1" strike="noStrike">
              <a:solidFill>
                <a:srgbClr val="eee37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378"/>
                </a:solidFill>
                <a:latin typeface="Arial"/>
              </a:rPr>
              <a:t>Version 2.0</a:t>
            </a:r>
            <a:endParaRPr b="0" lang="en-US" sz="2400" spc="-1" strike="noStrike">
              <a:solidFill>
                <a:srgbClr val="eee3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conditional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itional statements are very useful for displaying specific content to the user. The following example shows how to display content according to the day of the we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3276720"/>
          <a:ext cx="6248520" cy="243828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&lt;?php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today_dayofweek = date(“w”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($today_dayofweek == 4){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echo “Today is Thursday!”;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se{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echo “Today is not Thursday.”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?&gt;</a:t>
                      </a:r>
                      <a:br>
                        <a:rPr sz="14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5052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conditional statements</a:t>
            </a:r>
            <a:br>
              <a:rPr sz="1800"/>
            </a:br>
            <a:br>
              <a:rPr sz="9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if statement checks the value of 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$today_dayofweek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(which is the numerical day of the week, 0=Sunday… 6=Saturda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If it is equal to 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(the numeric representation of Thurs.) it will displa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everything within the first { } bracket  after the “if()”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If it is not equal to 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it will display everything in the second { } brack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after the “else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3276720"/>
          <a:ext cx="6248520" cy="243828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&lt;?php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today_dayofweek = date(“w”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($today_dayofweek == 4){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echo “Today is Thursday!”;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se{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echo “Today is not Thursday.”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?&gt;</a:t>
                      </a:r>
                      <a:br>
                        <a:rPr sz="14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914400" y="5052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conditional statements</a:t>
            </a:r>
            <a:br>
              <a:rPr sz="2000"/>
            </a:br>
            <a:br>
              <a:rPr sz="1200"/>
            </a:b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f we run the script on a Thursday, we should see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“Today is Thursday”.</a:t>
            </a:r>
            <a:br>
              <a:rPr sz="1800"/>
            </a:br>
            <a:br>
              <a:rPr sz="1000"/>
            </a:b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n days other than Thursday, we will see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“Today is not Thursday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3276720"/>
          <a:ext cx="6248520" cy="243828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&lt;?php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today_dayofweek = date(“w”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($today_dayofweek == 4){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echo “Today is Thursday!”;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se{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echo “Today is not Thursday.”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?&gt;</a:t>
                      </a:r>
                      <a:br>
                        <a:rPr sz="14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914400" y="5052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P is a great way to implement templates on your websi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implement a simple page cou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Universal header and footer in a single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eate a file called header.php. This file will have all of th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ader HTML code. You can use FrontPage/Dreamweaver to create the header, but remember to remove the closing &lt;/BODY&gt; and &lt;/HTML&gt; ta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2120" y="2819520"/>
          <a:ext cx="7467480" cy="32763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276360">
                <a:tc>
                  <a:txBody>
                    <a:bodyPr lIns="411480" rIns="90000" tIns="32004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html&gt;&lt;head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title&gt;UCR Webmaster Support Group&lt;/title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link rel="stylesheet" type="text/css" href=“mycssfile.css"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head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body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table width=80% height=30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tr&gt;&lt;td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div align=center&gt; Page Title &lt;/div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td&gt;&lt;/tr&gt;&lt;/table&gt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Universal header and footer in a single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, create a file called footer.php. This file will have all of the footer HTML co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819520"/>
          <a:ext cx="7467480" cy="327600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276000">
                <a:tc>
                  <a:txBody>
                    <a:bodyPr lIns="411480" rIns="90000" tIns="32004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table width=80% height=30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tr&gt;&lt;td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div align=center&gt; UC Riverside Department&lt;BR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&lt;a href=mailto:someuser@ucr.edu&gt;someuser@ucr.edu&lt;/a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div&gt;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td&gt;&lt;/tr&gt;&lt;/table&gt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body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html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niversal header and footer in a single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is is the basic template that you will use on all of the pages. Make sure you name the files with a 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.ph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xtension so that the server will process the PHP code. In this example, we assume the header and footer files are located in the same director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2819520"/>
          <a:ext cx="7467480" cy="327600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276000">
                <a:tc>
                  <a:txBody>
                    <a:bodyPr lIns="411480" rIns="90000" tIns="32004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&lt;?ph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69c828"/>
                          </a:solidFill>
                          <a:latin typeface="Arial"/>
                        </a:rPr>
                        <a:t>// hea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nclude(“header.php”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rt content here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&lt;?ph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69c828"/>
                          </a:solidFill>
                          <a:latin typeface="Arial"/>
                        </a:rPr>
                        <a:t>// foo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nclude(“footer.php”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efit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 Any changes to header or footer only require editing of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le file. This reduces the amount of work necessary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te maintenance and redesig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 Helps separate the content and design for easier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81080" y="3276720"/>
            <a:ext cx="4724280" cy="2666880"/>
            <a:chOff x="1981080" y="3276720"/>
            <a:chExt cx="4724280" cy="2666880"/>
          </a:xfrm>
        </p:grpSpPr>
        <p:sp>
          <p:nvSpPr>
            <p:cNvPr id="139" name=""/>
            <p:cNvSpPr/>
            <p:nvPr/>
          </p:nvSpPr>
          <p:spPr>
            <a:xfrm>
              <a:off x="1981080" y="4114800"/>
              <a:ext cx="761760" cy="609840"/>
            </a:xfrm>
            <a:prstGeom prst="rect">
              <a:avLst/>
            </a:prstGeom>
            <a:solidFill>
              <a:srgbClr val="69c8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240" y="4114800"/>
              <a:ext cx="762120" cy="609840"/>
            </a:xfrm>
            <a:prstGeom prst="rect">
              <a:avLst/>
            </a:prstGeom>
            <a:solidFill>
              <a:srgbClr val="69c8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160" y="4114800"/>
              <a:ext cx="762120" cy="609840"/>
            </a:xfrm>
            <a:prstGeom prst="rect">
              <a:avLst/>
            </a:prstGeom>
            <a:solidFill>
              <a:srgbClr val="69c8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440" y="4114800"/>
              <a:ext cx="762120" cy="609840"/>
            </a:xfrm>
            <a:prstGeom prst="rect">
              <a:avLst/>
            </a:prstGeom>
            <a:solidFill>
              <a:srgbClr val="69c8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52880" y="4114800"/>
              <a:ext cx="761760" cy="609840"/>
            </a:xfrm>
            <a:prstGeom prst="rect">
              <a:avLst/>
            </a:prstGeom>
            <a:solidFill>
              <a:srgbClr val="69c82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360" y="3276720"/>
              <a:ext cx="2057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52680" y="5562720"/>
              <a:ext cx="2057400" cy="380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6" name=""/>
            <p:cNvCxnSpPr>
              <a:stCxn id="139" idx="0"/>
              <a:endCxn id="144" idx="2"/>
            </p:cNvCxnSpPr>
            <p:nvPr/>
          </p:nvCxnSpPr>
          <p:spPr>
            <a:xfrm flipV="1">
              <a:off x="2361960" y="3657240"/>
              <a:ext cx="194400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2" idx="0"/>
              <a:endCxn id="144" idx="2"/>
            </p:cNvCxnSpPr>
            <p:nvPr/>
          </p:nvCxnSpPr>
          <p:spPr>
            <a:xfrm flipV="1">
              <a:off x="3352680" y="3657240"/>
              <a:ext cx="9532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1" idx="0"/>
              <a:endCxn id="144" idx="2"/>
            </p:cNvCxnSpPr>
            <p:nvPr/>
          </p:nvCxnSpPr>
          <p:spPr>
            <a:xfrm flipH="1" flipV="1">
              <a:off x="4304520" y="3657240"/>
              <a:ext cx="38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43" idx="0"/>
              <a:endCxn id="144" idx="2"/>
            </p:cNvCxnSpPr>
            <p:nvPr/>
          </p:nvCxnSpPr>
          <p:spPr>
            <a:xfrm flipH="1" flipV="1">
              <a:off x="4304880" y="3657240"/>
              <a:ext cx="10288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0" idx="0"/>
              <a:endCxn id="144" idx="2"/>
            </p:cNvCxnSpPr>
            <p:nvPr/>
          </p:nvCxnSpPr>
          <p:spPr>
            <a:xfrm flipH="1" flipV="1">
              <a:off x="4304520" y="3657240"/>
              <a:ext cx="201996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39" idx="2"/>
              <a:endCxn id="145" idx="0"/>
            </p:cNvCxnSpPr>
            <p:nvPr/>
          </p:nvCxnSpPr>
          <p:spPr>
            <a:xfrm>
              <a:off x="2361600" y="4724640"/>
              <a:ext cx="2019960" cy="838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2" idx="2"/>
              <a:endCxn id="145" idx="0"/>
            </p:cNvCxnSpPr>
            <p:nvPr/>
          </p:nvCxnSpPr>
          <p:spPr>
            <a:xfrm>
              <a:off x="3352320" y="4724640"/>
              <a:ext cx="1028880" cy="838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1" idx="2"/>
              <a:endCxn id="145" idx="0"/>
            </p:cNvCxnSpPr>
            <p:nvPr/>
          </p:nvCxnSpPr>
          <p:spPr>
            <a:xfrm>
              <a:off x="4343040" y="4724640"/>
              <a:ext cx="38880" cy="838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3" idx="2"/>
              <a:endCxn id="145" idx="0"/>
            </p:cNvCxnSpPr>
            <p:nvPr/>
          </p:nvCxnSpPr>
          <p:spPr>
            <a:xfrm flipH="1">
              <a:off x="4380840" y="4724640"/>
              <a:ext cx="953280" cy="838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0" idx="2"/>
              <a:endCxn id="145" idx="0"/>
            </p:cNvCxnSpPr>
            <p:nvPr/>
          </p:nvCxnSpPr>
          <p:spPr>
            <a:xfrm flipH="1">
              <a:off x="4380840" y="4724640"/>
              <a:ext cx="1944000" cy="838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1: Simple Pag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wnload the counter file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2"/>
              </a:rPr>
              <a:t>webcounter.tx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nto your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load the webcounter.txt file onto your web server (via FTP, WinSCP,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the file permissions of the webcounter.txt file to 777 to allow th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er file to be upda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3200400"/>
            <a:ext cx="4514760" cy="2886120"/>
            <a:chOff x="914400" y="3200400"/>
            <a:chExt cx="4514760" cy="288612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914400" y="3200400"/>
              <a:ext cx="190512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048120" y="3200400"/>
              <a:ext cx="2381040" cy="288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2: Simple Pag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py this code into a page where you want a coun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362320"/>
          <a:ext cx="7467480" cy="38858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885840">
                <a:tc>
                  <a:txBody>
                    <a:bodyPr lIns="411480" rIns="90000" tIns="32004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&lt;?ph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COUNTER_FILE = “webcounter.txt"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(file_exists($COUNTER_FILE)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fp = fopen("$COUNTER_FILE", "r+"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ck($fp, 1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hits = fgets($fp, 4096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hits += 1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seek($fp,0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puts($fp, $hits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ck($fp, 3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close($fp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}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19810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600303"/>
              </a:gs>
              <a:gs pos="50000">
                <a:srgbClr val="d20808"/>
              </a:gs>
              <a:gs pos="100000">
                <a:srgbClr val="60030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Brief History of P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95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600303"/>
              </a:gs>
              <a:gs pos="50000">
                <a:srgbClr val="d20808"/>
              </a:gs>
              <a:gs pos="100000">
                <a:srgbClr val="60030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Getting sta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7339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600303"/>
              </a:gs>
              <a:gs pos="50000">
                <a:srgbClr val="d20808"/>
              </a:gs>
              <a:gs pos="100000">
                <a:srgbClr val="60030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3: Simple Pag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, output the counter value using PHP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y this line after the main block of c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2590920"/>
          <a:ext cx="7467480" cy="8380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838080">
                <a:tc>
                  <a:txBody>
                    <a:bodyPr lIns="411480" rIns="90000" tIns="32004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page has been viewed</a:t>
                      </a:r>
                      <a:r>
                        <a:rPr b="1" lang="en-US" sz="18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lt;?php echo“$hits”; ?&gt;</a:t>
                      </a:r>
                      <a:r>
                        <a:rPr b="1" lang="en-US" sz="18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3124080" cy="2476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3240" y="358128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t’s it! The result should look something similar 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 3: Simple Pag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change the text around the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&lt;?php echo“$hits”; ?&gt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ags to your li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2743200"/>
          <a:ext cx="7467480" cy="91440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914400">
                <a:tc>
                  <a:txBody>
                    <a:bodyPr lIns="411480" rIns="90000" tIns="320040" bIns="3200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lt;?php  echo“$hits”; ?&gt;</a:t>
                      </a:r>
                      <a:r>
                        <a:rPr b="1" lang="en-US" sz="1800" spc="-1" strike="noStrike">
                          <a:solidFill>
                            <a:srgbClr val="d20808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or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148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04440" y="3860640"/>
            <a:ext cx="671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example sh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to escape from HTML and enter PHP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to output variables onto the screen using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to output variables using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ch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the common method in outputting data. Since i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a language construct, echo doesn’t require parenthesi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ke print(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Text Usage:  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?php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cho “Hello World”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?&gt;  // prints out Hello Worl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the value of a PHP variable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?php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cho “$hits”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?&gt;    // prints out the number of h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o has a shortcut syntax, but it only works with the “shor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tag” configuration enabled on the server.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&lt;?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$hits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uses with echo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generate the year on your pages. This wi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out ©2004 UC Riverside.   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?php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echo date(“Y”);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&gt;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UC Riverside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need to escape any quotation marks with a backslash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?php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echo “I said \”She sells sea shells\” ”;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dditional Resources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P Manual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3"/>
              </a:rPr>
              <a:t>docs.php.net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4"/>
              </a:rPr>
              <a:t>/</a:t>
            </a:r>
            <a:br>
              <a:rPr sz="1600"/>
            </a:br>
            <a:r>
              <a:rPr b="1" lang="en-US" sz="1600" spc="-1" strike="noStrike" u="sng">
                <a:solidFill>
                  <a:srgbClr val="fcf97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P Tutorial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5"/>
              </a:rPr>
              <a:t>http://academ.hvcc.edu/~kantopet/php/index.php</a:t>
            </a:r>
            <a:br>
              <a:rPr sz="1600"/>
            </a:br>
            <a:r>
              <a:rPr b="1" lang="en-US" sz="16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P Coder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6"/>
              </a:rPr>
              <a:t>http://www.phpide.de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dit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8"/>
              </a:rPr>
              <a:t>www.jedit.org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9"/>
              </a:rPr>
              <a:t>/</a:t>
            </a:r>
            <a:br>
              <a:rPr sz="1600"/>
            </a:br>
            <a:r>
              <a:rPr b="1" lang="en-US" sz="1600" spc="-1" strike="noStrike" u="sng">
                <a:solidFill>
                  <a:srgbClr val="f5dd77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P's creator offers his thoughts on the PHP phenomenon, what has shaped and motivated the language, and where the PHP movement is heading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10"/>
              </a:rPr>
              <a:t>http://www.oracle.com/technology/pub/articles/php_experts/rasmus_php.html</a:t>
            </a:r>
            <a:br>
              <a:rPr sz="1600"/>
            </a:br>
            <a:r>
              <a:rPr b="1" lang="en-US" sz="16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tscripts – A large number of PHP scripts can be found at: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11"/>
              </a:rPr>
              <a:t>http://</a:t>
            </a:r>
            <a:r>
              <a:rPr b="0" lang="en-US" sz="1600" spc="-1" strike="noStrike" u="sng">
                <a:solidFill>
                  <a:srgbClr val="f5dd77"/>
                </a:solidFill>
                <a:uFillTx/>
                <a:latin typeface="Arial"/>
                <a:hlinkClick r:id="rId12"/>
              </a:rPr>
              <a:t>hotscripts.com/PHP/Scripts_and_Programs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dditional Information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of the new functions added in version 5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rays:</a:t>
            </a:r>
            <a:br>
              <a:rPr sz="1400"/>
            </a:b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2"/>
              </a:rPr>
              <a:t>array_combine</a:t>
            </a: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3"/>
              </a:rPr>
              <a:t>(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 Creates an array by using one array for keys and another for its valu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4"/>
              </a:rPr>
              <a:t>array_walk_recursive</a:t>
            </a: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5"/>
              </a:rPr>
              <a:t>(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 Apply a user function recursively to every member of an arra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 and Time Relate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6"/>
              </a:rPr>
              <a:t>idate</a:t>
            </a: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7"/>
              </a:rPr>
              <a:t>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at a local time/date as integ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8"/>
              </a:rPr>
              <a:t>date_sunset</a:t>
            </a: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9"/>
              </a:rPr>
              <a:t>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me of sunset for a given day and loc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10"/>
              </a:rPr>
              <a:t>date_sunrise</a:t>
            </a:r>
            <a:r>
              <a:rPr b="0" lang="en-US" sz="1400" spc="-1" strike="noStrike" u="sng">
                <a:solidFill>
                  <a:srgbClr val="f5dd77"/>
                </a:solidFill>
                <a:uFillTx/>
                <a:latin typeface="Arial"/>
                <a:hlinkClick r:id="rId11"/>
              </a:rPr>
              <a:t>(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me of sunrise for a given day and loc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me_nanosleep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ay for a number of seconds and nano second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ing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_split() 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vert a string to an arr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pbrk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arch a string for any of a set of characte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str_compare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nary safe optionally case insensitive comparison of two strings from an offset, up to length charact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p_check_syntax() - Check the syntax of the specified fi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p_strip_whitespace(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turn source with stripped comments and whitespa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ief History of PHP</a:t>
            </a:r>
            <a:br>
              <a:rPr sz="3600"/>
            </a:br>
            <a:endParaRPr b="0" lang="en-US" sz="36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PHP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HP: Hypertext Preprocesso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was created by Rasmus Lerdorf in 1994. It was initially developed for HTTP usage logging and server-side form generation in Unix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PHP 2 (1995)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transformed the language into a Server-side embedded scripting language. Added database support, file uploads, variables, arrays, recursive functions, conditionals, iteration, regular expressions, etc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PHP 3 (1998)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added support for ODBC data sources, multiple platform support, email protocols (SNMP,IMAP), and new parser written by Zeev Suraski and Andi Gutmans 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PHP 4 (2000)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became an independent component of the web server for added efficiency. The parser was renamed the Zend Engine. Many security features were added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PHP 5 (2004)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adds Zend Engine II with object oriented programming, robust XML support using the libxml2 library, SOAP extension for interoperability with Web Services, SQLite has been bundled with PHP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80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ief History of PHP </a:t>
            </a:r>
            <a:br>
              <a:rPr sz="3600"/>
            </a:br>
            <a:endParaRPr b="0" lang="en-US" sz="36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of August 2004, PHP is used on 16,946,328 Domains, 1,348,793 IP Addresses </a:t>
            </a:r>
            <a:r>
              <a:rPr b="0" lang="en-US" sz="1800" spc="-1" strike="noStrike" u="sng">
                <a:solidFill>
                  <a:srgbClr val="f5dd77"/>
                </a:solidFill>
                <a:uFillTx/>
                <a:latin typeface="Arial"/>
                <a:hlinkClick r:id="rId2"/>
              </a:rPr>
              <a:t>http://www.php.net/usage.ph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This is roughly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32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ll domains on the we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79246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 is PHP used?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295280"/>
            <a:ext cx="794412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y to Use</a:t>
            </a:r>
            <a:br>
              <a:rPr sz="20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de is embedded into HTML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PHP code is enclosed in special start and end tags that allow you to jump into and out of "PHP mode"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&lt;html&gt;</a:t>
            </a:r>
            <a:br>
              <a:rPr sz="1800"/>
            </a:b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   &lt;head&gt;</a:t>
            </a:r>
            <a:br>
              <a:rPr sz="1800"/>
            </a:b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       &lt;title&gt;Example&lt;/title&gt;</a:t>
            </a:r>
            <a:br>
              <a:rPr sz="1800"/>
            </a:b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   &lt;/head&gt;</a:t>
            </a:r>
            <a:br>
              <a:rPr sz="1800"/>
            </a:b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   &lt;body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   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?ph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     echo "Hi, I'm a PHP script!"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     ?&gt;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  &lt;/body&gt;</a:t>
            </a:r>
            <a:br>
              <a:rPr sz="1800"/>
            </a:br>
            <a:r>
              <a:rPr b="0" lang="en-US" sz="1800" spc="-1" strike="noStrike">
                <a:solidFill>
                  <a:srgbClr val="eee378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 is PHP used?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295280"/>
            <a:ext cx="794412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oss Platform</a:t>
            </a:r>
            <a:br>
              <a:rPr sz="20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s on almost any Web server on several operating systems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e of the strongest features is the wide range of supported datab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eb Servers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pache, Microsoft IIS, Caudium, Netscape Enterprise Serve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erating Systems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UNIX (HP-UX,OpenBSD,Solaris,Linux), Mac OSX, Windows NT/98/2000/XP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upported Databases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dabas D, dBase,Empress, FilePro (read-only), Hyperwave,IBM DB2, Informix, Ingres, InterBase, FrontBase, mSQL, Direct MS-SQL, MySQL, ODBC, Oracle (OCI7 and OCI8), Ovrimos, PostgreSQL, SQLite, Solid, Sybase, Velocis,Unix db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 is PHP used?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95280"/>
            <a:ext cx="7944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Benefit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P is free. Open source code means that the entire PHP community will contribute towards bug fixes. There are several add-on technologies (libraries) for PHP that are also fre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2590920"/>
          <a:ext cx="7086600" cy="3082680"/>
        </p:xfrm>
        <a:graphic>
          <a:graphicData uri="http://schemas.openxmlformats.org/drawingml/2006/table">
            <a:tbl>
              <a:tblPr/>
              <a:tblGrid>
                <a:gridCol w="2514600"/>
                <a:gridCol w="45720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 (Linux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To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5dd77"/>
                          </a:solidFill>
                          <a:uFillTx/>
                          <a:latin typeface="Arial"/>
                          <a:hlinkClick r:id="rId2"/>
                        </a:rPr>
                        <a:t>PHP Code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5dd77"/>
                          </a:solidFill>
                          <a:uFillTx/>
                          <a:latin typeface="Arial"/>
                          <a:hlinkClick r:id="rId3"/>
                        </a:rPr>
                        <a:t>jEd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to escape from HTML and enter PHP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P parses a file by looking for one of the special tags tha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ls it to start interpreting the text as PHP code. The parser then executes all of the code it finds until it runs into a PHP closing t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3352680"/>
          <a:ext cx="7543800" cy="2662200"/>
        </p:xfrm>
        <a:graphic>
          <a:graphicData uri="http://schemas.openxmlformats.org/drawingml/2006/table">
            <a:tbl>
              <a:tblPr/>
              <a:tblGrid>
                <a:gridCol w="2562120"/>
                <a:gridCol w="1171800"/>
                <a:gridCol w="380988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ing t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t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lt;?ph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red method as it allows the use of PHP with XHTM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lt;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commended. Easier to type, but has to be enabled and may conflict with XM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lt;script language="php"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?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 available, best if used when FrontPage is the HTML edi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lt;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%&g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commended. ASP tags support was added in 3.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893320" y="274320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&lt;?php</a:t>
            </a:r>
            <a:r>
              <a:rPr b="1" lang="en-US" sz="1800" spc="-1" strike="noStrike">
                <a:solidFill>
                  <a:srgbClr val="d2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o “Hello World”;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?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514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9c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514600"/>
            <a:ext cx="175284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P CO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514600"/>
            <a:ext cx="1676520" cy="228600"/>
          </a:xfrm>
          <a:prstGeom prst="rect">
            <a:avLst/>
          </a:prstGeom>
          <a:solidFill>
            <a:srgbClr val="69c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514600"/>
            <a:ext cx="1676520" cy="228600"/>
          </a:xfrm>
          <a:prstGeom prst="rect">
            <a:avLst/>
          </a:prstGeom>
          <a:solidFill>
            <a:srgbClr val="69c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endParaRPr b="0" lang="en-US" sz="4000" spc="-1" strike="noStrike">
              <a:solidFill>
                <a:srgbClr val="eee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HTML Page with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68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is a basic example to output text us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2514600"/>
          <a:ext cx="6019920" cy="204624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html&gt;&lt;head&gt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title&gt;My First PHP Page&lt;/title&gt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head&gt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body&gt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&lt;?php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cho "Hello World!"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?&gt;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/body&gt;&lt;/html&gt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685800" y="4648320"/>
            <a:ext cx="75373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y the code onto your web server and save it as “test.php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see “Hello World!” displayed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ice that the semicolon is used at the end of each line of PHP code to signify a line break. Like HTML, PHP ignores whitespa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tween lines of code. (An HTML equivalent is &lt;BR&gt;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8:57:43Z</dcterms:created>
  <dc:creator>UCR Libraries</dc:creator>
  <dc:description/>
  <cp:keywords/>
  <dc:language>en-US</dc:language>
  <cp:lastModifiedBy>UCR Libraries</cp:lastModifiedBy>
  <dcterms:modified xsi:type="dcterms:W3CDTF">2004-12-09T22:54:15Z</dcterms:modified>
  <cp:revision>106</cp:revision>
  <dc:subject/>
  <dc:title>PHP – An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