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ct" ContentType="image/x-pict"/>
  <Override PartName="/ppt/media/image26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7.pct" ContentType="image/x-pict"/>
  <Override PartName="/ppt/media/image44.png" ContentType="image/png"/>
  <Override PartName="/ppt/media/image9.png" ContentType="image/png"/>
  <Override PartName="/ppt/media/image12.png" ContentType="image/png"/>
  <Override PartName="/ppt/media/image10.png" ContentType="image/png"/>
  <Override PartName="/ppt/media/image33.pct" ContentType="image/x-pict"/>
  <Override PartName="/ppt/media/image36.png" ContentType="image/png"/>
  <Override PartName="/ppt/media/image34.pct" ContentType="image/x-pict"/>
  <Override PartName="/ppt/media/image37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13.png" ContentType="image/png"/>
  <Override PartName="/ppt/media/image39.jpeg" ContentType="image/jpeg"/>
  <Override PartName="/ppt/media/image35.pct" ContentType="image/x-pict"/>
  <Override PartName="/ppt/media/image38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2.pct" ContentType="image/x-pict"/>
  <Override PartName="/ppt/media/image25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26F0-230A-4D09-9824-E3587DF70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2, Yahoo selected PHP for Web site development and began to phase out its own proprietary server-side scripting language. Three years later, Michael Radwin reflects on how the switch to PHP offered both technical challenges and productivity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presentation offers a look inside Yahoo's decision-making process to adopt an open-source scripting language. Radwin addresses why Yahoo selected PHP over other languages, focusing on the performance and stability required to serve billions of page view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econd part, Radwin discusses Yahoo's PHP development methodology, which has enabled its engineers to rapidly implement features while still creating software that is maintainable over long periods of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J. Radwin is an engineering manager for Yahoo's Infrastructure Software group. His team develops and supports Web platform technologies such as Apache, PHP, and MySQL, and more recently SOAP/REST toolkits. Radwin has been hacking on Apache since 1998 in high-performance environments and his team has been instrumental in helping Yahoo migrate from proprietary to open source 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PHP 4.1.2, mod_perl, yScript (Yahoo proprieta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ium III 800Mhz, 512M RAM, FreeBSD 4.3 (average for early 20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mple app: 33K input script, 41K out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d and evaluated 3 other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er, navbar,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ithmetic, regex, echo vari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seudo-personalization (“Hello, mradwin”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few calls to C++ exte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tch user profile from profil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ert advertisements from ad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ahoo property (sports, finance, personals, etc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balancer - which server can most handle requests coming in based on algorithm (round robin, least connections, etc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on server are bunch of PHP scripts.  Can make remote calls to relational databases, or to other web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pages go regular Apache htdocs 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login.yahoo.com/config/login?.intl=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usr/local/share/htdocs/dk/login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logic goes in PEAR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usr/local/share/pear/HTML/Form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usr/local/share/pear/Yahoo/Sports/Teams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ile with APD to see where your hot spots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ee a function being called 8,000 times on one page, that might be a good candidate to port to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scripts (or include files) that get hit a 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bother optimizing a script that only gets called once in a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candidates for ext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d lo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18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tis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B (user datab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M-like flat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from Q3 2005 Yahoo! Ear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8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ACAE-8091-4315-B005-718E7EBCF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061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067640"/>
            <a:ext cx="8061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9138-68BA-47C3-AF6E-6A4F1A11D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0676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76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3F6C-0231-4153-B5CB-CC1247569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5280" y="15998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0840" y="15998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0676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5280" y="40676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0840" y="40676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F810-2FC2-4E6E-9D31-74BF5AFA7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5729-1E31-4A34-AA07-E1E63075C9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077C-30F3-4810-A439-B5AC33A786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1932-F44C-4F69-A848-BD59FC8274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3933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3933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CADE-17D6-480F-9372-8644EDD4D6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0C4E-357F-4685-B1E7-DB6EE9850A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160" y="83880"/>
            <a:ext cx="8305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E3B1-32C5-4B00-9CF7-2DA63DBF8F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3933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49360" y="40676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C875-E225-4740-9609-D0BEA5AD53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310F-B160-4B19-9214-0CD10AD67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3933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0" y="40676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626F-6FCB-4BF3-8B14-AE2B3699CE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9360" y="4067640"/>
            <a:ext cx="8061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22C8-A75C-4B7D-B61F-133989A432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061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9360" y="4067640"/>
            <a:ext cx="8061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61C3-1F52-43CC-9E67-BC56FEFD47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9360" y="40676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0" y="40676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9AAE-7152-45EE-A340-D16899BAE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75280" y="15998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0840" y="15998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9360" y="40676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75280" y="40676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0840" y="4067640"/>
            <a:ext cx="2595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1D63-46E1-4FC0-9F5F-8F143DBA2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6468-4C44-49FC-9BDE-4F3E3D041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3933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3933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6AA8-F166-4D8B-8830-DF58024F6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3090-98FE-45E9-861B-CC1B732CB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3880"/>
            <a:ext cx="8305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A608-22C0-48BA-BCCB-632F4AE36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3933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0676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7F4C-DDF7-4DD7-862F-9FF75A3F1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3933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76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3C8D-D160-456B-91B7-355FA65BE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3933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067640"/>
            <a:ext cx="8061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1854-A506-490E-AF97-3F6402EC0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4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488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488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488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2FB7-73E9-4EEA-AE67-E7ACA15A8C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228600"/>
            <a:ext cx="1371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A15B-BBDF-4AF3-AA82-A0833FB2D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2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3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pc.communityconnect.com/" TargetMode="External"/><Relationship Id="rId2" Type="http://schemas.openxmlformats.org/officeDocument/2006/relationships/image" Target="../media/image36.png"/><Relationship Id="rId3" Type="http://schemas.openxmlformats.org/officeDocument/2006/relationships/hyperlink" Target="http://www.zend.com/store/products/zend-performance-suite.php" TargetMode="External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3298680"/>
            <a:ext cx="716256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PHP at Yaho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ublic.yahoo.com/~radw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5181480"/>
            <a:ext cx="37339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hael J. Rad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0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9023-7B98-4946-AC71-294F2F4140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Choosing PHP: brief history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ctober 2001: 3 proprietary langu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ly to continue to maintai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features (no subroutine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ittee began researc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features,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vs. Buy vs.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P selected May 200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02D4-B1FF-4372-AB73-2A388235C2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Ideal Language Criteria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395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ust, sand-box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,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data-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/C++ ex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ns on FreeBS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9120" y="1599840"/>
            <a:ext cx="395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37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reted or dynamically compi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37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18n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37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 separation of presentation/content/app seman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37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training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37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n’t require CS degree to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1080" y="5334120"/>
            <a:ext cx="1532160" cy="573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38F0-5FB1-46CD-B1D9-785F8F4953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Top 10 Language Choices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pic>
        <p:nvPicPr>
          <p:cNvPr id="138" name="" descr="Active Server Pages"/>
          <p:cNvPicPr/>
          <p:nvPr/>
        </p:nvPicPr>
        <p:blipFill>
          <a:blip r:embed="rId1"/>
          <a:stretch/>
        </p:blipFill>
        <p:spPr>
          <a:xfrm>
            <a:off x="4267080" y="4495680"/>
            <a:ext cx="16002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6629400" y="4343400"/>
          <a:ext cx="1284120" cy="144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4343400"/>
                    <a:ext cx="128412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mod_perl logo"/>
          <p:cNvPicPr/>
          <p:nvPr/>
        </p:nvPicPr>
        <p:blipFill>
          <a:blip r:embed="rId4"/>
          <a:srcRect l="0" t="0" r="11107" b="0"/>
          <a:stretch/>
        </p:blipFill>
        <p:spPr>
          <a:xfrm>
            <a:off x="609480" y="1676520"/>
            <a:ext cx="1981440" cy="593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Mason"/>
          <p:cNvPicPr/>
          <p:nvPr/>
        </p:nvPicPr>
        <p:blipFill>
          <a:blip r:embed="rId5"/>
          <a:stretch/>
        </p:blipFill>
        <p:spPr>
          <a:xfrm>
            <a:off x="2895480" y="1752480"/>
            <a:ext cx="2079720" cy="525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Java Technology"/>
          <p:cNvPicPr/>
          <p:nvPr/>
        </p:nvPicPr>
        <p:blipFill>
          <a:blip r:embed="rId6"/>
          <a:stretch/>
        </p:blipFill>
        <p:spPr>
          <a:xfrm>
            <a:off x="725400" y="4343400"/>
            <a:ext cx="1408320" cy="180648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5791320" y="2971800"/>
            <a:ext cx="2409840" cy="1195920"/>
            <a:chOff x="5791320" y="2971800"/>
            <a:chExt cx="2409840" cy="1195920"/>
          </a:xfrm>
        </p:grpSpPr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5791320" y="2971800"/>
              <a:ext cx="240984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081840" y="376884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mod_inclu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3276720" y="2911320"/>
            <a:ext cx="1958760" cy="1033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685800" y="2693880"/>
            <a:ext cx="2401920" cy="1470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62320" y="4724280"/>
            <a:ext cx="1752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5334120" y="1676520"/>
            <a:ext cx="3085920" cy="861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010640" y="23893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DA64-777A-4523-97E9-EA08937FB5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Performance: Requests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95320" y="1600200"/>
          <a:ext cx="73533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600200"/>
                    <a:ext cx="7353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781680" y="3581280"/>
            <a:ext cx="106704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_pe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FDDC-C480-4248-9EF9-69EE71010B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Performance: Memory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3240" y="1600200"/>
          <a:ext cx="73533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1600200"/>
                    <a:ext cx="7353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7467480" y="3733920"/>
            <a:ext cx="106704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_pe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1687-3A50-46A7-A414-EA267E55C2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Why we picked PHP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ed for web scrip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rge, Open Source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590400">
              <a:lnSpc>
                <a:spcPct val="90000"/>
              </a:lnSpc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cumentation, easy to hire develop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de-in-HTML” paradig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&lt;?ph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echo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"Hello World"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, libraries, extensibi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ols: IDE, debugger, profil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OSI logo"/>
          <p:cNvPicPr/>
          <p:nvPr/>
        </p:nvPicPr>
        <p:blipFill>
          <a:blip r:embed="rId1"/>
          <a:stretch/>
        </p:blipFill>
        <p:spPr>
          <a:xfrm>
            <a:off x="7238880" y="1752480"/>
            <a:ext cx="128268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7238880" y="5181480"/>
          <a:ext cx="109692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5181480"/>
                    <a:ext cx="1096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284960" y="4495680"/>
            <a:ext cx="1020960" cy="5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C0DA-526D-4E82-86BD-3AA3EB9F18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0099"/>
                </a:solidFill>
                <a:latin typeface="Arial"/>
              </a:rPr>
              <a:t>PHP at Yahoo! Today</a:t>
            </a:r>
            <a:endParaRPr b="1" lang="en-US" sz="44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7431-EEE7-4C30-B830-18484386FE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Yahoo!’s Development Methodology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rver Architec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le Layou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pendency Manage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lobaliz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F3BA-C00E-4F13-8CAF-D7806D006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286760" y="3583080"/>
            <a:ext cx="1247760" cy="103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18360" y="3524400"/>
            <a:ext cx="1239840" cy="100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33760" y="1949400"/>
            <a:ext cx="2178000" cy="36432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5520" y="5087880"/>
            <a:ext cx="124452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  <a:ea typeface="Arial"/>
              </a:rPr>
              <a:t>Server Architecture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7440" y="1897200"/>
            <a:ext cx="2176560" cy="36273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1787400"/>
            <a:ext cx="2100240" cy="36547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3240" y="2438280"/>
            <a:ext cx="701640" cy="68580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ri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9" idx="3"/>
            <a:endCxn id="180" idx="1"/>
          </p:cNvCxnSpPr>
          <p:nvPr/>
        </p:nvCxnSpPr>
        <p:spPr>
          <a:xfrm>
            <a:off x="1218960" y="2971800"/>
            <a:ext cx="533880" cy="643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1752480" y="1787400"/>
            <a:ext cx="544680" cy="3654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 Bal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0" idx="3"/>
            <a:endCxn id="176" idx="1"/>
          </p:cNvCxnSpPr>
          <p:nvPr/>
        </p:nvCxnSpPr>
        <p:spPr>
          <a:xfrm>
            <a:off x="2297160" y="3614400"/>
            <a:ext cx="2181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5562720" y="1843200"/>
            <a:ext cx="1699920" cy="13572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08920" y="4983120"/>
            <a:ext cx="124452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4"/>
            <a:endCxn id="183" idx="1"/>
          </p:cNvCxnSpPr>
          <p:nvPr/>
        </p:nvCxnSpPr>
        <p:spPr>
          <a:xfrm flipH="1" rot="16200000">
            <a:off x="6325200" y="4628880"/>
            <a:ext cx="515160" cy="10515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5" name="Cloud"/>
          <p:cNvSpPr/>
          <p:nvPr/>
        </p:nvSpPr>
        <p:spPr>
          <a:xfrm>
            <a:off x="5257800" y="4114800"/>
            <a:ext cx="1600200" cy="784080"/>
          </a:xfrm>
          <a:prstGeom prst="pie">
            <a:avLst/>
          </a:prstGeom>
          <a:solidFill>
            <a:srgbClr val="badb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5"/>
            <a:endCxn id="171" idx="1"/>
          </p:cNvCxnSpPr>
          <p:nvPr/>
        </p:nvCxnSpPr>
        <p:spPr>
          <a:xfrm flipV="1">
            <a:off x="6856200" y="4028400"/>
            <a:ext cx="362520" cy="478440"/>
          </a:xfrm>
          <a:prstGeom prst="bentConnector3">
            <a:avLst>
              <a:gd name="adj1" fmla="val 5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7" idx="3"/>
            <a:endCxn id="185" idx="6"/>
          </p:cNvCxnSpPr>
          <p:nvPr/>
        </p:nvCxnSpPr>
        <p:spPr>
          <a:xfrm>
            <a:off x="3944880" y="2781000"/>
            <a:ext cx="1318320" cy="1726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77" idx="3"/>
            <a:endCxn id="182" idx="2"/>
          </p:cNvCxnSpPr>
          <p:nvPr/>
        </p:nvCxnSpPr>
        <p:spPr>
          <a:xfrm flipV="1">
            <a:off x="3944880" y="2521800"/>
            <a:ext cx="1618560" cy="2595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397512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762120" cy="761760"/>
          </a:xfrm>
          <a:prstGeom prst="rect">
            <a:avLst/>
          </a:prstGeom>
          <a:ln w="0">
            <a:noFill/>
          </a:ln>
        </p:spPr>
      </p:pic>
      <p:cxnSp>
        <p:nvCxnSpPr>
          <p:cNvPr id="191" name=""/>
          <p:cNvCxnSpPr>
            <a:stCxn id="189" idx="3"/>
            <a:endCxn id="180" idx="1"/>
          </p:cNvCxnSpPr>
          <p:nvPr/>
        </p:nvCxnSpPr>
        <p:spPr>
          <a:xfrm flipV="1">
            <a:off x="1218960" y="3614400"/>
            <a:ext cx="533880" cy="735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867280" y="2286000"/>
            <a:ext cx="1067040" cy="131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967360" y="2583000"/>
            <a:ext cx="895320" cy="465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040200" y="4761000"/>
            <a:ext cx="1531800" cy="573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PHP"/>
          <p:cNvPicPr/>
          <p:nvPr/>
        </p:nvPicPr>
        <p:blipFill>
          <a:blip r:embed="rId6"/>
          <a:stretch/>
        </p:blipFill>
        <p:spPr>
          <a:xfrm>
            <a:off x="3090960" y="3733920"/>
            <a:ext cx="914400" cy="48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2938320" y="3276720"/>
          <a:ext cx="53352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38320" y="32767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3548160" y="3276720"/>
            <a:ext cx="533160" cy="27936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2676600" y="4267080"/>
            <a:ext cx="1709640" cy="337320"/>
            <a:chOff x="2676600" y="4267080"/>
            <a:chExt cx="1709640" cy="337320"/>
          </a:xfrm>
        </p:grpSpPr>
        <p:pic>
          <p:nvPicPr>
            <p:cNvPr id="200" name="" descr="The image “http://atlassw1.phy.bnl.gov/images/feather.gif” cannot be displayed, because it contains errors."/>
            <p:cNvPicPr/>
            <p:nvPr/>
          </p:nvPicPr>
          <p:blipFill>
            <a:blip r:embed="rId10"/>
            <a:stretch/>
          </p:blipFill>
          <p:spPr>
            <a:xfrm>
              <a:off x="3557520" y="4267080"/>
              <a:ext cx="828720" cy="2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676600" y="426708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a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2590920" y="4724280"/>
            <a:ext cx="554040" cy="609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72440" y="438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8EC2-8DD4-49A5-8D6C-2DFB1E98C2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File Layout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905120"/>
            <a:ext cx="5790960" cy="791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ML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usr/local/share/htdocs/*.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857680"/>
            <a:ext cx="5790960" cy="791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late Hel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usr/local/share/htdocs/*.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848040"/>
            <a:ext cx="5790960" cy="791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usr/local/share/pear/*.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4838760"/>
            <a:ext cx="5790960" cy="791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/C++ Cor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access, Networking, Cry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81680" y="2944800"/>
            <a:ext cx="1219320" cy="631440"/>
          </a:xfrm>
          <a:prstGeom prst="rect">
            <a:avLst/>
          </a:prstGeom>
          <a:solidFill>
            <a:srgbClr val="badb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0% 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0% 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3935520"/>
            <a:ext cx="1219320" cy="631440"/>
          </a:xfrm>
          <a:prstGeom prst="rect">
            <a:avLst/>
          </a:prstGeom>
          <a:solidFill>
            <a:srgbClr val="badb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% 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0% 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4925880"/>
            <a:ext cx="1219320" cy="631440"/>
          </a:xfrm>
          <a:prstGeom prst="rect">
            <a:avLst/>
          </a:prstGeom>
          <a:solidFill>
            <a:srgbClr val="badb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% 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% 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1981080"/>
            <a:ext cx="1219320" cy="631440"/>
          </a:xfrm>
          <a:prstGeom prst="rect">
            <a:avLst/>
          </a:prstGeom>
          <a:solidFill>
            <a:srgbClr val="badb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5% 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% 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E759-C4E2-45DD-8F19-7B041F1100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ahoo!, as seen by an engine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oosing PHP in 200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P architecture at Yahoo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1847-D6F2-4CE4-B6AE-EF90F5129E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Dependency Management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36400" y="1599840"/>
            <a:ext cx="5373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PHP package depends only on XML par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/configure --disable-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Contained Exten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sql, dba, curl, ldap, pcre, gd, ico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/usr/local/lib/php/20020429/mysql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tension = mysql.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.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unnecessary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Apache memory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49360" y="1687680"/>
            <a:ext cx="2608200" cy="27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58F5-6208-40F3-AE93-8B9EEEF1D2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Security: INI Settings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open_based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again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etc/passw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o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llow_url_fopen =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bcu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nsion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open proxy explo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display_errors =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_errors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afe_mode =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for shared host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57960" y="2666880"/>
            <a:ext cx="194796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E381-AB52-4065-A43C-851889373D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Security: Input Filtering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774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search.yahoo.com/search?p=&lt;script+src=http://evil.com/x.js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 Site Scripting (XSS) most common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“SQL Inj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p_tag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sqli_escape_string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every lin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dious and error-p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Us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_fil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e all user-submit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/POST/Coo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254640" y="2649600"/>
            <a:ext cx="2268720" cy="25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8BD9-A78C-454C-998B-22507B1006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Performance: Opcode Caches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5373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iest performance bo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parsed .php scripts in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de modific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al product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nd Performance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ck MM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rcRect l="0" t="0" r="60738" b="0"/>
          <a:stretch/>
        </p:blipFill>
        <p:spPr>
          <a:xfrm>
            <a:off x="5999040" y="3886200"/>
            <a:ext cx="2230560" cy="903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2209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019920" y="5083200"/>
            <a:ext cx="2209680" cy="55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00E3-A087-4EC2-B9E3-2B148E6CAE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Performance: PHP Extensions in C++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4708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P ships with 80 extensions written in C/C+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ahoo! develops its own proprietary exten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client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er development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, compile, link,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memory-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23040" y="1905120"/>
            <a:ext cx="308592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7CA5-BC31-4F14-A3EB-7805455BA4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Globalization: PHP Unicode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9360" y="2514240"/>
            <a:ext cx="8061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tive Unicode support in 200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laborative effor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i Zmievski (Yahoo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i Gutmans (Z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mbers of PHP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1971720" cy="17575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313080" y="1714680"/>
            <a:ext cx="87804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2079720" cy="393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592360" y="16002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267080" y="1600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854600" y="1560600"/>
            <a:ext cx="860400" cy="725400"/>
            <a:chOff x="4854600" y="1560600"/>
            <a:chExt cx="860400" cy="725400"/>
          </a:xfrm>
        </p:grpSpPr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4854600" y="1560600"/>
              <a:ext cx="8604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979520" y="16984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C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0" name="" descr="PHP"/>
          <p:cNvPicPr/>
          <p:nvPr/>
        </p:nvPicPr>
        <p:blipFill>
          <a:blip r:embed="rId5"/>
          <a:stretch/>
        </p:blipFill>
        <p:spPr>
          <a:xfrm>
            <a:off x="6477120" y="1600200"/>
            <a:ext cx="1066680" cy="56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H="1">
            <a:off x="5867280" y="1600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467480" y="154944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DE37-813F-491F-9B53-CC492EF936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20CC-A6E5-4F3D-9AFB-4F58CBA654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The Internet’s most trafficked site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5975280" cy="1965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36520" y="1600200"/>
            <a:ext cx="6869160" cy="1182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43000" y="31399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E525-E3B8-4069-81AC-8A760C8256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25 countries, 13 languages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4867" t="0" r="7504" b="0"/>
          <a:stretch/>
        </p:blipFill>
        <p:spPr>
          <a:xfrm>
            <a:off x="609480" y="1609560"/>
            <a:ext cx="7772400" cy="365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6498-ECED-4984-8905-D67002EBE8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Yahoo! by the Numbers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11M unique visitors per mo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1M active registered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1.4M fee-paying custo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4B average daily pagevi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3878280"/>
            <a:ext cx="2514600" cy="21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2A7B-85D3-44B8-8D32-464D9662A4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92120" y="460440"/>
            <a:ext cx="6357960" cy="59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8151-9283-4CCA-A997-2FC7856AF3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Engineering Values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06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7640" indent="-64764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&amp; Priv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ust protect our customers’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te is offline, we’re missing the opportunity to serve our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rve billions of pageviews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1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ility &amp; Inno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 site for each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development of new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72280" y="304920"/>
            <a:ext cx="3085920" cy="86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2451-6820-47F6-851D-D0C5D20242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3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0099"/>
                </a:solidFill>
                <a:latin typeface="Arial"/>
              </a:rPr>
              <a:t>From Proprietary to Open Source</a:t>
            </a:r>
            <a:endParaRPr b="1" lang="en-US" sz="36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673360"/>
            <a:ext cx="3962520" cy="380880"/>
          </a:xfrm>
          <a:prstGeom prst="rightArrow">
            <a:avLst>
              <a:gd name="adj1" fmla="val 50000"/>
              <a:gd name="adj2" fmla="val 2600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51452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4   95   96   97   98   99   00   01   02   03   04   05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1295280" cy="417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63600" y="2666880"/>
            <a:ext cx="93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840" y="297180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0" b="24412"/>
          <a:stretch/>
        </p:blipFill>
        <p:spPr>
          <a:xfrm>
            <a:off x="1828800" y="244476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3160" y="3429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o Serv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118200" y="5087880"/>
            <a:ext cx="1044720" cy="55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76520" y="205740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516564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013360"/>
            <a:ext cx="76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82720" y="4883040"/>
          <a:ext cx="838080" cy="83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82720" y="4883040"/>
                    <a:ext cx="8380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706760" y="5622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5165640"/>
            <a:ext cx="3048120" cy="381240"/>
          </a:xfrm>
          <a:prstGeom prst="rightArrow">
            <a:avLst>
              <a:gd name="adj1" fmla="val 50000"/>
              <a:gd name="adj2" fmla="val 199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9960" y="39625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819680" y="3987720"/>
            <a:ext cx="895320" cy="381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38600" y="3987720"/>
            <a:ext cx="1752480" cy="381240"/>
          </a:xfrm>
          <a:prstGeom prst="rightArrow">
            <a:avLst>
              <a:gd name="adj1" fmla="val 50000"/>
              <a:gd name="adj2" fmla="val 1149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3962520"/>
            <a:ext cx="2286000" cy="380880"/>
          </a:xfrm>
          <a:prstGeom prst="rightArrow">
            <a:avLst>
              <a:gd name="adj1" fmla="val 50000"/>
              <a:gd name="adj2" fmla="val 15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7240" y="44197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30320" y="3962520"/>
            <a:ext cx="609840" cy="4572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0830-8FF4-44EC-8B29-90BC4CF09A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0099"/>
                </a:solidFill>
                <a:latin typeface="Arial"/>
              </a:rPr>
              <a:t>Choosing a Language</a:t>
            </a:r>
            <a:endParaRPr b="1" lang="en-US" sz="4400" spc="-1" strike="noStrike">
              <a:solidFill>
                <a:srgbClr val="7b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and Why We Selected PH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28285-978A-4EC6-9AA9-ABBB41740F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1:44:08Z</dcterms:created>
  <dc:creator>Glenn Tokunaga</dc:creator>
  <dc:description/>
  <dc:language>en-US</dc:language>
  <cp:lastModifiedBy>yahoo yahoo</cp:lastModifiedBy>
  <cp:lastPrinted>2005-10-18T00:42:24Z</cp:lastPrinted>
  <dcterms:modified xsi:type="dcterms:W3CDTF">2005-10-20T04:54:57Z</dcterms:modified>
  <cp:revision>61</cp:revision>
  <dc:subject/>
  <dc:title>PowerPoint Presentation</dc:title>
</cp:coreProperties>
</file>