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F3C-DC6F-4ED8-B4C9-E8DB40BE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858-9845-496E-8370-98B21FB4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6E8-F7C2-4216-8706-F7495F0C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13F-A8FA-49C3-827A-B309D532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09F7-6118-496F-949D-AC021A8A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61FE-2B52-40BA-A043-2679C008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102A-D409-40BE-BE3B-0379C3DF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DDA8-E640-4C19-A446-CBB22C98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7837-2EC8-4BB7-9840-E405A559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BEEF-3F4B-4AC8-BBE3-C3A67CBA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F0AC-40DE-404F-9B7A-40CD8C75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7E7-2904-4B16-B58E-5B3788E8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8A31-D6A3-45B5-97A7-0E4C155F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91D4-1F45-4C23-8863-10D03C7E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F452-6CAF-43F7-AFF8-AC21366C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6943-C7AD-4A8B-A981-962D431C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C703-47CD-4DB1-8B68-81E0565B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531-D33B-4638-AC81-3A3C78B8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2BE-D01E-4F36-9A05-31E23B08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68E-9C7B-4782-ADAB-C841F335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733-4E5A-4AF2-BE6E-FE812E87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3AF-8130-43BA-98A7-C4962F54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806-6940-4608-AEF0-C1921EAD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03E-CEAE-4F81-9657-1A408E6B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7DF2-5C42-45FC-8AE3-9704FAFBE5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A586-2D6C-4A16-9190-BA1F5C5D8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ourceforge.net/projects/timeclock/" TargetMode="External"/><Relationship Id="rId3" Type="http://schemas.openxmlformats.org/officeDocument/2006/relationships/hyperlink" Target="http://sourceforge.net/projects/mrbs/" TargetMode="External"/><Relationship Id="rId4" Type="http://schemas.openxmlformats.org/officeDocument/2006/relationships/hyperlink" Target="http://sourceforge.net/projects/mrbs/" TargetMode="External"/><Relationship Id="rId5" Type="http://schemas.openxmlformats.org/officeDocument/2006/relationships/hyperlink" Target="http://sourceforge.net/projects/mrbs/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hining A Light on Open Source Software: Going Beyond LAMPP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ng Web Content Us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Source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62520" y="51814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pal housekeep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the first acc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e to Administ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 a status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 any issues noted in the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rupal handbook will answer most install and basic setup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drupal.org/getting-sta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HP Timecloc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 and unpack file to htdo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up database in phpMyAdm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up user and permissions in phpMyAdmin under the SQL fun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 SELECT, UPDATE, INSERT, DELETE, ALTER, CREATE , LOCK TABLES ON databasename.* TO 'username'@'localhost' IDENTIFIED BY 'password'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up the required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RB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BS stand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ing Room Book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w Library uses MRBS so that students can book study rooms within the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BS can be configured to work with LDAP or Active Dire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tting up MRB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load and unpack file to htdo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up database in phpMyAd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up user and permissions in phpMyAdmin under the SQL fun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NT SELECT, UPDATE, INSERT, DELETE, ALTER, CREATE , LOCK TABLES ON databasename.* TO 'username'@'localhost' IDENTIFIED BY 'password'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up the required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gure config.inc.ph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is LAMPP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7470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MPP stands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ux (operating sys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ache (web ser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(database applic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P (scripting langu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(scripting langu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43800" y="304920"/>
            <a:ext cx="981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ere can I get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buntu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kubuntu.org/download.php#late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AMPP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apachefriends.org/en/xampp-linu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pal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drupal.org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P Timeclock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sourceforge.net/projects/timeclock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RBS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sourceforge.net/projects/mrbs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09480" y="304920"/>
            <a:ext cx="1000080" cy="118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7162920" y="380880"/>
            <a:ext cx="14284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efore we can serve content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75438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’ll need a web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AMPP inclu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ache, MySQL, PHP &amp; PEAR, Perl, ProFTPD, phpMyAdmin, OpenSSL, GD, Freetype2, libjpeg, libpng, gdbm, zlib, expat, Sablotron, libxml, Ming, Webalizer, pdf class, ncurses, mod_perl, FreeTDS, gettext, mcrypt, mhash, eAccelerator, SQLite and IMAP C-Cli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11714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ow do I install XAMPP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e to the directory where the downloaded file is lo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 the comma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 xvfz xampp-linux-1.6.6.tar.gz -C /o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in mind that Linux is case sen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XAMPP as roo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o /opt/lampp/lampp sta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happens when I reboo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reboot the machine, XAMPP might not start automa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ix this, change directories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etc/rc2.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un these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-s /opt/lampp/lampp S99lamp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n -s /opt/lampp/lampp K01lamp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ymbolic link to XAMPP’s start &amp; stop command has now been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curity Consider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Develop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pache modules are enab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is enabled without a pass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TP is enabled without a pass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ptions turned on by de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 security standpoi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is wide open to potential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the security command to close most of the glaring security h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opt/lampp/lampp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is a CM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S stands for: Content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s content consistent and orga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pal is one of the larger, free, open source CMS’s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ow do I install Drupal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0042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 the extracted file to /opt/lampp/htdo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up a database for Drupal in phpMyAd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up a user and permissions for Drupal in phpMyAd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permissions for /opt/lampp/htdocs/drupal/sites/default/settings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Drupal install scri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0288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4:19:13Z</dcterms:created>
  <dc:creator>Stacey L. Rowland</dc:creator>
  <dc:description/>
  <dc:language>en-US</dc:language>
  <cp:lastModifiedBy>Stacey L. Rowland</cp:lastModifiedBy>
  <dcterms:modified xsi:type="dcterms:W3CDTF">2008-06-20T15:16:09Z</dcterms:modified>
  <cp:revision>46</cp:revision>
  <dc:subject>Setting up LAMPP &amp; other open source software</dc:subject>
  <dc:title>Slide 1</dc:title>
</cp:coreProperties>
</file>