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691-009D-4207-B3ED-6524703D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E65-8186-4C17-AF40-14265207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D0A-C381-48AC-95F6-C747692C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668-A747-477B-BBAA-A5FDA0AB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D6B4-17EE-49D7-B795-23FEDC0E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F886-E431-4FFB-82E9-09EB21C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E1C-B0E5-43E1-BA7F-976F322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17A6-AFF1-4E76-8FF4-D9A5A62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18F-A855-4B6A-97E9-762753AC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208-845F-4E63-A50B-437FEFB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3FFE-9FB5-430F-8D82-5B6BB85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C98-44C2-444C-82D2-DBBC90C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48C-3BF1-4493-8AD8-72C0591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DFE-17F8-4CFF-8C74-3306DF4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E328-5CA0-4332-97B3-2AA839A7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F57-3EF8-43E9-8E3A-68BB3CCB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94F-BA6B-4848-99AA-92539783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699-6B74-4140-91A8-84143526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5DA-780B-467B-B6E9-86C9FB4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239-5512-4296-8E63-A1538D7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1D8-E6C2-47A0-A36B-D8FC3068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08A-250C-411D-9105-C25B95A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5E5-5ABE-4F34-BC3C-E354E7C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9D4-ADEA-4016-AF8F-1CDA4CC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103F-7424-4927-80AC-48DC0F1A954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E1D-F2FB-4FD9-AE20-62F1B2E0817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is.brown.edu/patrick/php/phpinfo.php" TargetMode="External"/><Relationship Id="rId3" Type="http://schemas.openxmlformats.org/officeDocument/2006/relationships/hyperlink" Target="http://cis.brown.edu/patrick/php/phpinfo.ph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p.net/manual/en" TargetMode="External"/><Relationship Id="rId3" Type="http://schemas.openxmlformats.org/officeDocument/2006/relationships/hyperlink" Target="http://php.net/echo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own.edu/cgi-local/eform.cgi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rown.edu/db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rown.edu/phpMyAdmin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p.net/nl2br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p.net/htmlentities" TargetMode="External"/><Relationship Id="rId3" Type="http://schemas.openxmlformats.org/officeDocument/2006/relationships/hyperlink" Target="http://us2.php.net/manual/en/function.mysql-real-escape-string.php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webpublishers@listserv.brown.edu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 to PH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ief overview – Patrick Lav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alar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ld single valu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ring/tex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umb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name = “Josiah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dob = “1/1/23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age = 84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waist_size = 36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ay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ld multiple valu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l in one step example: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kids = Array(“Tom”,”Dick”,”Harry”)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ultiple steps example: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kids = Array();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kids[0] = “Tom”;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kids[1] = “Dick”;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kids[2] = “Harry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dividual array values are just a scal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ray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ssociative Arrays – may be easier to find stuff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teams = Array(‘bos’=&gt;’Red Sox’, ‘nyy’=&gt;’Yankees’, ’bal’=&gt;’Orioles’)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two-step way works the sam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teams = Array()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teams[‘bos’] = ‘Red Sox’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’ll talk about these later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’re in no rus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240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etting PHP to do some action for yo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() or print(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phpinfo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()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(phpinfo.php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e lazy.  It’s a good thing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f you’re going to do the same action more than once, write a functio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ayhello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unction sayHello($toWhom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 “Hello $toWhom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ots have already been written for you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php.net/manual/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f you know the function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http://php.net/ech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Basic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we do things now: eform.cgi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form method=“POST” action=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www.brown.edu/cgi-local/eform.cgi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text” name=“name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text” name=“age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submit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/form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Basic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we do things with PHP: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sicform.ht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form method=“POST” action=“output.php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text” name=“name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text” name=“age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input type=“submit”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/form&gt;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Basic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pturing the data in output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riabl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$_POST[‘name’]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$_POST[‘age’]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phpinfo() to see variab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P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P (recursive acronym for "PHP: Hypertext Preprocessor") is a widely-used Open Source general-purpose scripting language that is especially suited for Web development and can be embedded into HTML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? echo “HI!”;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Basic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ave HTML and 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utput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&lt;html&gt;&lt;body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&lt;?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name = $_POST[‘name’]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age = $_POST[‘age’]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cho “My name is $name and I am $age years old”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&lt;/body&gt;&lt;/html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’ll talk more about validating user input later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Basic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utputting to the screen is nice, but bor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 could email the resul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store data in a databa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yers of a Datab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ataba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ab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elds/Colum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co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Get a Datab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Microsoft Acc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Filemak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quest a MySQL Database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brown.edu/db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quest a MySQL Datab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 will receiv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rver name (it’s not localhost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atabase na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Userna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asswor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nk to phpMyAdmi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pMyAdm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pMyAdmin is a graphical view of your databa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ery eas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Let’s take a look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(http://brown.edu/phpMyAdmi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ng to DB from PH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one connection script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bconn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conn = mysql_connect($server,$user,$pw)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ysql_select_db($db,$conn)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ng to DB from PH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member, “Be Lazy!”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t the top of each file that needs the DB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? require(“dbconn.php”);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base 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able named ‘info’ has two fields, name and ag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Use a SQL INSERT statement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sql =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SERT INTO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fo (name,age)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alues (‘$name’, ‘$age’)”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PHP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mpared to others lik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Java – Sun, compiled and interpreted (jsp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erl – Open Source, scrip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.NET – MS, opposite of Jav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ldFusion – Now Adobe, the origi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Javascript – Netscape, client-sid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P – Open Source, server-sid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base 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d it to the Databas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ysql_query($sql,$conn)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Whole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binsert.php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?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require(“dbconn.php”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name = $_POST[‘name’]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age = $_POST[‘age’]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sql = “INSERT into info (name,age) values(‘$name’, ‘$age’);”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ysql_query($sql,$conn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html&gt;&lt;body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Thank you, your name and age were received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/body&gt;&lt;/html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Whole Picture - Fanci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ancydbinsert.php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?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require(“dbconn.php”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name = $_POST[‘name’]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age = $_POST[‘age’]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sql = “INSERT into info (name,age) values(‘$name’, ‘$age’);”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$success = mysql_query($sql,$conn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html&gt;&lt;body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? if($success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{ echo “Thank you, your name and age were received.”; }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{ echo “Sorry, your info wasn’t received, please contact …”; }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/body&gt;&lt;/html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tting the Info 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ad it in phpMyAdmi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n output page</a:t>
            </a:r>
            <a:br>
              <a:rPr sz="3200"/>
            </a:b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(Just like that little survey you filled out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ate an Output P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nnect to the Ser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 a query of the dat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ogrammatically write the data to a p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ew the page in a brows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see how to do i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 to the Ser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rst, include our connection script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? require(“dbconn.php”);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a Query of the 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s time we use SELEC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sql = “SELECT name, age FROM info”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Or if you have many fields and want to be LAZY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$sql = “SELECT * from info”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matically Write the 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Here’s the only hard part: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table border=“1”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? $result = mysql_query($sql, $conn)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while($table = mysql_fetch_object($result)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cho “&lt;tr&gt;&lt;td&gt;”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cho $table-&gt;nam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cho “&lt;/td&gt;&lt;td&gt;”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cho $table-&gt;age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cho “&lt;/td&gt;&lt;/tr&gt;”;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}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&lt;/table&gt;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tting it All Togeth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tatuspage.php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? require(“dbconn.php”)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$sql = “SELECT * FROM info”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$result = mysql_query($sql, $conn)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html&gt;&lt;body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table border=“1”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? while($table = mysql_fetch_object($result)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{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echo “&lt;tr&gt;&lt;td&gt;”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echo $table-&gt;name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echo “&lt;/td&gt;&lt;td&gt;”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echo $table-&gt;age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echo “&lt;/td&gt;&lt;/tr&gt;”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?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table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&lt;/body&gt;&lt;/html&gt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ate Object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f you don’t like using mysql_fetch_object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ysql_fetch_array($result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ysql_fetch_assoc($result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it wor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P is installed on web ser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ur web server is Apache (just an FYI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rver parses files based on extens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turns plain HTML, no cod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sql_fetch_array(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ccess the columns by number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ile($array = mysql_fetch_array($result)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 $array[0]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 $array[1]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sql_fetch_assoc(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ccess the columns by column nam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ile($array = mysql_fetch_assoc($result)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 $array[‘name’]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cho $array[‘age’]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e Helpful Fun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nl2br()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– Line breaks in a form are not respect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s function will turn a newline (nl) character into (2) an html &lt;br&gt; (br) tag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ery Important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thout it, your site and all others can be hacked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P makes it easi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ut down on XSS with 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mlentities(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ut down on SQL-injection with 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mysql_real_escape_string()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eck that you’re getting what you exp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eck that you’re getting the length you exp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n’t trust JavaScrip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oss site scripting vulnerabil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llows a user to input scrip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llows a user to input links to malicious sit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llows a user to steal a session/cookie/passwor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htmlentities() function turns entities into its harmless entity number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‘ is turned into &amp;#39;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QL-injection vulnerabil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lows a user to directly access your databa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lows a user to get access to other accoun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lows a user to read data you don’t want read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vention can be as simple as escaping quotes with mysql_real_escape_string to all user inpu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$clean_user = mysql_real_escape_string($_POST[‘username’])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et what you expect to ge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n’t change it, give error mess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xample: (validinsert.php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ge, should be less than 110, and numeric. Reject anything els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f(strlen($age)&gt;3){ //error message }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f(!is_int($age)){ //error message }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f($age&gt;110 || $age&lt;18){ //error message }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et the length you exp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&lt;input type=“text” name=“username” maxlength=“8”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ke sure the username is no longer than 8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f(strlen($username)&gt;8)){ //error message }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Vali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n’t trust JavaScript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 client side AND server side valida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– The Bas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ed to name files is a .php extens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xample: index.php, mypage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pen and close tags: &lt;? 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s: &lt;?php 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ave file to server, view in a brows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lide #5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 think that’s enoug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webpublishers@listserv.brown.ed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xt topic – to be announced for early M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llo Worl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elloworld.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html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body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? echo “Hello World!”; ?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/body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/html&gt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ariables are like a cup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same cup can hol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ts of different thin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ame with variabl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1622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 PHP, you create a variable with a dollar sign and some tex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ually the text will be something descriptive of what it is going to hold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name = “Patrick Laverty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dept = “CIS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$campus_addr = “Box 1885”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re are many different kinds of variables in PH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cal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r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bj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5:58:34Z</dcterms:created>
  <dc:creator>plaverty</dc:creator>
  <dc:description/>
  <cp:keywords/>
  <dc:language>en-US</dc:language>
  <cp:lastModifiedBy>plaverty</cp:lastModifiedBy>
  <dcterms:modified xsi:type="dcterms:W3CDTF">2007-04-23T21:15:38Z</dcterms:modified>
  <cp:revision>20</cp:revision>
  <dc:subject/>
  <dc:title>Intro to PH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51033</vt:lpwstr>
  </property>
</Properties>
</file>