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E28-90BC-442F-9FE1-70DB1074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B92-F8FE-4F4E-A1B5-7BFE99AA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0B8-0A40-45DF-BEDF-7115C83E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9AB-9246-4F76-AE0F-AB38E418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94E8-ED71-484A-8E63-05E7902A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BD1D-139E-44D3-A822-A650583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9F27-A34A-46E6-BD17-EF43F144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B181-F423-4862-AE5D-96D2083B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ACD4-128D-49DD-B10E-773E80C0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ACE6-B32D-474B-A81B-EE191221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9421-94C1-46B0-AE71-D4C3BEC9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ED8-5822-45B8-B24E-86AC99F1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507E-7F90-498B-A5C0-0633A269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453-F787-45F3-91F2-6376F90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3C53-1C86-4CC5-8E6D-2F76C8B2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CA23-5206-4166-AF51-C51938D1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32F6-37D4-47C0-948A-AC8EA7A3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F0F-319C-43A5-AFC4-934A3CBE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9C0-9979-46B6-85D3-5DBB91B2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FF2-9B8B-438A-A06C-780C3892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A23-E132-46DE-9F43-D021D1E3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E2C-C8C5-4FD2-AD71-2236D97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D31-F49F-4710-9DF0-DCE452F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F1C-B300-4F8A-B343-F017F00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FE87-7BFF-405A-A6F9-1E46B40D5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BE71-E545-4AF6-BDFC-430462FDD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eb-design-class.com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 to Web Programm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Blaine Hil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ftware 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toise SV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ers Note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S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pMyAd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Web Ser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web-design-clas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web-design-class.com/phpMyAd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initiallastname.web-design-clas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html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head&gt;&lt;title&gt;Hello World!&lt;/title&gt;&lt;/head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body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h1&gt;Hello World&lt;/h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/body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/html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ve and upl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folder on your flash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as “index.php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version up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SCP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TML Tags to Kn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ab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hr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h1&gt;-&lt;h6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p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br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pr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form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a href=“address”&gt;Text&lt;/a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mg src=“image.jpg” alt=“description” width=“” height=“”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able border=“1”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th&gt;#&lt;/t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th&gt;Name&lt;/t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td&gt;1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td&gt;Blaine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td&gt;2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td&gt;Rick&lt;/t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tabl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El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Elements in HTM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nput type=“text” name=“name” value=“”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extarea name=“name" cols=40 rows=8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textarea name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select name=“nam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option value=“value”&gt;Display&lt;/option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selec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select multiple name=“name" size=“4”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option value=“value”&gt;Display&lt;/option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select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Elements in HTM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nput type="radio" name=“color" value=“Red“ /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nput type="radio" name=“color" value=“Yellow” /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nput type=“checkbox" name=“color" value=“Red“ /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nput type=“checkbox" name=“color" value=“Yellow”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nput type=“submit” name=“name” value=“Click”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nput type=“hidden” name=“name” value=“value”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TM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well formed HTML needs to follow some ru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ags are always lowe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ags must be cl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out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, Expectations, and other Required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s – Why are you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to L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Hello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base 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s/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eld 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CHA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base Ke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tabase Communication - SQ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P 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?php echo ‘Hello World’ ; ?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 Co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?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univers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‘Purdue’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o “$university”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name starts with 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 ends each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lines can be within one opening/closing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bining Str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?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fn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‘Blaine’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ln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‘Hilton’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univer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‘Purdue’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ho ‘My name is ‘.”$fname”.’ and I attend ‘.”$university”’.’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ain, anytime you open/start you must close/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quotes are for non-changing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uble quotes are for information that can change (variabiles, ect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 can usually always use double quotes, but it makes the page load longer (more to think abo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rst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students register their likes and disli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ite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ules and su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o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ere o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any noise maker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for the class, if you haven’t al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c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k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only have 8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ession is 3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’m going to make a very wide array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understand something, its going to get worst, not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’m not asked anything I’m going to assume I should move through the material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P and MySQL Web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BN: 0-672-32672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46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s 135 pages to read per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it, its worth it, you will use it af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MP Application St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MP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elopment Wor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 files lo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 to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up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le Transfer Meth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 to the La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oftware is installed in the middle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you save on the lab computer will be erased at the end of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files must be saved to your flash drive, it is highly recommended to backup your flash drive to another drive and/or your home computer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06:55Z</dcterms:created>
  <dc:creator>Blaine Hilton</dc:creator>
  <dc:description/>
  <dc:language>en-US</dc:language>
  <cp:lastModifiedBy>Blaine Hilton</cp:lastModifiedBy>
  <dcterms:modified xsi:type="dcterms:W3CDTF">2008-08-27T22:42:19Z</dcterms:modified>
  <cp:revision>5</cp:revision>
  <dc:subject/>
  <dc:title>Intro to Web Programming</dc:title>
</cp:coreProperties>
</file>